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jpeg" ContentType="image/jpeg"/>
  <Override PartName="/ppt/media/image29.jpeg" ContentType="image/jpeg"/>
  <Override PartName="/ppt/media/image35.png" ContentType="image/png"/>
  <Override PartName="/ppt/media/image5.png" ContentType="image/png"/>
  <Override PartName="/ppt/media/image37.png" ContentType="image/png"/>
  <Override PartName="/ppt/media/image40.png" ContentType="image/png"/>
  <Override PartName="/ppt/media/image11.jpeg" ContentType="image/jpe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534B-2729-4B4F-9ED3-D5155926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CBD-E496-4248-9D85-CAF2D5A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DCE-FD3E-4925-9F22-4FBCA0DF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189-71C3-4E19-8B94-7E583C6F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3B7-7F4A-44C9-A191-580741DE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DBB-7E81-4B2F-B8B0-F4118435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08D-85A3-4A2E-AF77-2BCADDD7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48D-B1A8-4439-BDC2-4CA9E28C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6D6-AD70-4E79-8E7F-FACA2D79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E25-6951-461B-A09A-F931DC4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828-73C0-4BE0-BCEA-09B282A0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349-6C18-45B7-B330-4B133E9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791C-E659-4BDC-B6D1-3B7CA21AF3E7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Rectángulo"/>
          <p:cNvSpPr/>
          <p:nvPr/>
        </p:nvSpPr>
        <p:spPr>
          <a:xfrm>
            <a:off x="214200" y="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LIC.  Y PROF. CS BIOL – LIC. BIOTECNOLOGÍA          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800" spc="-1" strike="noStrike">
                <a:solidFill>
                  <a:srgbClr val="c00000"/>
                </a:solidFill>
                <a:latin typeface="Calibri"/>
              </a:rPr>
              <a:t>                      QCA. B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57168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PROGRAMA ANALITICO Y/O DE 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061480" y="357120"/>
            <a:ext cx="108252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8072280" y="4714920"/>
            <a:ext cx="65736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9 Rectángulo"/>
          <p:cNvSpPr/>
          <p:nvPr/>
        </p:nvSpPr>
        <p:spPr>
          <a:xfrm>
            <a:off x="7643880" y="1357200"/>
            <a:ext cx="5000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306360" y="114300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Tema 7</a:t>
            </a:r>
            <a:r>
              <a:rPr b="1" lang="es-A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3600" spc="-1" strike="noStrike">
                <a:solidFill>
                  <a:srgbClr val="c00000"/>
                </a:solidFill>
                <a:latin typeface="Calibri"/>
              </a:rPr>
              <a:t>METABOLISMO DE LÍPIDO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Rectángulo"/>
          <p:cNvSpPr/>
          <p:nvPr/>
        </p:nvSpPr>
        <p:spPr>
          <a:xfrm>
            <a:off x="285840" y="2071800"/>
            <a:ext cx="7358040" cy="4362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Metabolismo de lípidos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Biosíntesis de ácidos grasos saturados. Regulación. Requerimiento energét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Elongación de ácidos gras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Desaturación de ácidos grasos. Acidos grasos esenci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Biosíntesis de Triacilglicéridos, Fosfoglicéridos: precursores y enz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01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Metabolismo del Colesterol. Regulación. Excreción. </a:t>
            </a: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1801b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I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508720" y="3716280"/>
            <a:ext cx="3313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HIGADO, MUSCUL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1280" y="472428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700360" y="475128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292720" y="4653000"/>
            <a:ext cx="1152360" cy="7455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NADH FADH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348000" y="5300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dena Respi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635280" y="6237360"/>
            <a:ext cx="136836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6948360" y="613872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7524720" y="5516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5"/>
          <p:cNvSpPr/>
          <p:nvPr/>
        </p:nvSpPr>
        <p:spPr>
          <a:xfrm>
            <a:off x="6443640" y="4724280"/>
            <a:ext cx="1008000" cy="3603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6"/>
          <p:cNvSpPr/>
          <p:nvPr/>
        </p:nvSpPr>
        <p:spPr>
          <a:xfrm>
            <a:off x="6156360" y="5373720"/>
            <a:ext cx="792000" cy="10080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7"/>
          <p:cNvSpPr/>
          <p:nvPr/>
        </p:nvSpPr>
        <p:spPr>
          <a:xfrm>
            <a:off x="4522680" y="4870440"/>
            <a:ext cx="770040" cy="503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 flipH="1">
            <a:off x="1834920" y="4149720"/>
            <a:ext cx="43308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"/>
          <p:cNvSpPr/>
          <p:nvPr/>
        </p:nvSpPr>
        <p:spPr>
          <a:xfrm>
            <a:off x="2627280" y="4149720"/>
            <a:ext cx="289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de la movilización de </a:t>
            </a: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Triglicéridos en Ani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5"/>
          <p:cNvSpPr/>
          <p:nvPr/>
        </p:nvSpPr>
        <p:spPr>
          <a:xfrm>
            <a:off x="5076720" y="3500280"/>
            <a:ext cx="50328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7 CuadroTexto"/>
          <p:cNvSpPr/>
          <p:nvPr/>
        </p:nvSpPr>
        <p:spPr>
          <a:xfrm>
            <a:off x="1571760" y="2000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Calibri"/>
              </a:rPr>
              <a:t>ADIPOC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tructura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beza polar (fosfato + alcoho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la hidrófoba (ácidos gras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alibri"/>
              </a:rPr>
              <a:t>Esqueleto Básico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 Glicerol ó Esfingos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sp6641"/>
          <p:cNvPicPr/>
          <p:nvPr/>
        </p:nvPicPr>
        <p:blipFill>
          <a:blip r:embed="rId1"/>
          <a:srcRect l="75238" t="0" r="0" b="24453"/>
          <a:stretch/>
        </p:blipFill>
        <p:spPr>
          <a:xfrm>
            <a:off x="324000" y="3789360"/>
            <a:ext cx="3671640" cy="2149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71640" y="595008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Acido fosfat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779640" y="3284640"/>
            <a:ext cx="936360" cy="72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rcRect l="9223" t="29200" r="66731" b="61976"/>
          <a:stretch/>
        </p:blipFill>
        <p:spPr>
          <a:xfrm>
            <a:off x="4859280" y="3933720"/>
            <a:ext cx="3600360" cy="1798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5651640" y="5877000"/>
            <a:ext cx="259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Calibri"/>
              </a:rPr>
              <a:t>Esfingos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7164360" y="3357720"/>
            <a:ext cx="432000" cy="6476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71720" y="0"/>
            <a:ext cx="7072200" cy="1252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Biosíntesis de Fosfolíp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vertebrados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s-ES_tradnl" sz="2400" spc="-1" strike="noStrike">
                <a:solidFill>
                  <a:srgbClr val="c00000"/>
                </a:solidFill>
                <a:latin typeface="Arial"/>
              </a:rPr>
              <a:t>RE liso</a:t>
            </a: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31640" y="1243080"/>
            <a:ext cx="7473960" cy="4900680"/>
          </a:xfrm>
          <a:prstGeom prst="rect">
            <a:avLst/>
          </a:prstGeom>
          <a:ln w="0">
            <a:noFill/>
          </a:ln>
        </p:spPr>
      </p:pic>
      <p:sp>
        <p:nvSpPr>
          <p:cNvPr id="184" name="2 CuadroTexto"/>
          <p:cNvSpPr/>
          <p:nvPr/>
        </p:nvSpPr>
        <p:spPr>
          <a:xfrm>
            <a:off x="1669320" y="78588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801bf"/>
                </a:solidFill>
                <a:latin typeface="Arial"/>
              </a:rPr>
              <a:t>FOSFOLÍPIDOS -  principales grupos de cabeza 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Glicerofosfolíp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75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etanolam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col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ser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inosit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sfatidilgli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rdiolip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sp8431"/>
          <p:cNvPicPr/>
          <p:nvPr/>
        </p:nvPicPr>
        <p:blipFill>
          <a:blip r:embed="rId1"/>
          <a:srcRect l="77517" t="0" r="0" b="47312"/>
          <a:stretch/>
        </p:blipFill>
        <p:spPr>
          <a:xfrm>
            <a:off x="4788000" y="3500280"/>
            <a:ext cx="1944720" cy="1516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002200" y="146844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N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932360" y="2133720"/>
            <a:ext cx="244944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OH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-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2-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N(CH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r>
              <a:rPr b="1" lang="es-ES_tradnl" sz="1800" spc="-1" strike="noStrike">
                <a:solidFill>
                  <a:srgbClr val="ff3300"/>
                </a:solidFill>
                <a:latin typeface="Calibri"/>
              </a:rPr>
              <a:t>)</a:t>
            </a:r>
            <a:r>
              <a:rPr b="1" lang="es-ES_tradnl" sz="1800" spc="-1" strike="noStrike" baseline="-25000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4643280" y="2781360"/>
            <a:ext cx="2449440" cy="822960"/>
            <a:chOff x="4643280" y="2781360"/>
            <a:chExt cx="2449440" cy="822960"/>
          </a:xfrm>
        </p:grpSpPr>
        <p:sp>
          <p:nvSpPr>
            <p:cNvPr id="191" name="Text Box 8"/>
            <p:cNvSpPr/>
            <p:nvPr/>
          </p:nvSpPr>
          <p:spPr>
            <a:xfrm>
              <a:off x="4643280" y="2781360"/>
              <a:ext cx="244944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-CH-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-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N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COO</a:t>
              </a:r>
              <a:r>
                <a:rPr b="1" lang="es-ES_tradnl" sz="1800" spc="-1" strike="noStrike" baseline="30000">
                  <a:solidFill>
                    <a:srgbClr val="ff33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5651280" y="3070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140360" y="4869000"/>
            <a:ext cx="2952720" cy="822960"/>
            <a:chOff x="4140360" y="4869000"/>
            <a:chExt cx="2952720" cy="822960"/>
          </a:xfrm>
        </p:grpSpPr>
        <p:sp>
          <p:nvSpPr>
            <p:cNvPr id="194" name="Text Box 11"/>
            <p:cNvSpPr/>
            <p:nvPr/>
          </p:nvSpPr>
          <p:spPr>
            <a:xfrm>
              <a:off x="4140360" y="4869000"/>
              <a:ext cx="295272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-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-CH—CH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Calibri"/>
                </a:rPr>
                <a:t>2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  </a:t>
              </a:r>
              <a:r>
                <a:rPr b="1" lang="es-ES_tradnl" sz="1800" spc="-1" strike="noStrike">
                  <a:solidFill>
                    <a:srgbClr val="ff3300"/>
                  </a:solidFill>
                  <a:latin typeface="Calibri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5507280" y="5157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13" descr="sp6641"/>
          <p:cNvPicPr/>
          <p:nvPr/>
        </p:nvPicPr>
        <p:blipFill>
          <a:blip r:embed="rId2"/>
          <a:srcRect l="75238" t="0" r="0" b="24453"/>
          <a:stretch/>
        </p:blipFill>
        <p:spPr>
          <a:xfrm>
            <a:off x="539640" y="3933720"/>
            <a:ext cx="3672000" cy="2149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3203640" y="6093000"/>
            <a:ext cx="27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libri"/>
              </a:rPr>
              <a:t>fosfatidilgli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eeece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  <a:ea typeface="Arial"/>
              </a:rPr>
              <a:t>Biosíntesis de Glicerofosfolípidos</a:t>
            </a:r>
            <a:br>
              <a:rPr sz="2400"/>
            </a:br>
            <a:r>
              <a:rPr b="1" lang="es-ES_tradnl" sz="2400" spc="-1" strike="noStrike">
                <a:solidFill>
                  <a:srgbClr val="c00000"/>
                </a:solidFill>
                <a:latin typeface="Arial"/>
                <a:ea typeface="Arial"/>
              </a:rPr>
              <a:t>2 estrategias diferen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00000"/>
                </a:solidFill>
                <a:uFillTx/>
                <a:latin typeface="Calibri"/>
              </a:rPr>
              <a:t>Activación del esqueleto hidrófo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00000"/>
                </a:solidFill>
                <a:uFillTx/>
                <a:latin typeface="Calibri"/>
              </a:rPr>
              <a:t>Activación de la cabeza po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3429000"/>
            <a:ext cx="8064360" cy="459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cido fosfatídico +  CTP             CDP-diacilglicerol  + 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714840" y="3714840"/>
            <a:ext cx="647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 rot="20962200">
            <a:off x="3750120" y="2666880"/>
            <a:ext cx="2808360" cy="6426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Calibri"/>
              </a:rPr>
              <a:t>CDP-ácido fosfatídico-citidiltransf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611280" y="5516640"/>
            <a:ext cx="7920000" cy="459720"/>
            <a:chOff x="611280" y="5516640"/>
            <a:chExt cx="7920000" cy="459720"/>
          </a:xfrm>
        </p:grpSpPr>
        <p:sp>
          <p:nvSpPr>
            <p:cNvPr id="204" name="Text Box 8"/>
            <p:cNvSpPr/>
            <p:nvPr/>
          </p:nvSpPr>
          <p:spPr>
            <a:xfrm>
              <a:off x="611280" y="5516640"/>
              <a:ext cx="7920000" cy="45972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Fosforilcolina  +  CTP             CDP-colina  +  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3429000" y="5805360"/>
              <a:ext cx="6476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0"/>
          <p:cNvSpPr/>
          <p:nvPr/>
        </p:nvSpPr>
        <p:spPr>
          <a:xfrm>
            <a:off x="5506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5435640" y="6165720"/>
            <a:ext cx="2663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,2 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Biosíntesis de Fosfolípidos</a:t>
            </a:r>
            <a:br>
              <a:rPr sz="3200"/>
            </a:br>
            <a:r>
              <a:rPr b="1" i="1" lang="es-ES" sz="2800" spc="-1" strike="noStrike">
                <a:solidFill>
                  <a:srgbClr val="c00000"/>
                </a:solidFill>
                <a:latin typeface="Calibri"/>
              </a:rPr>
              <a:t>Esquema de interr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3520" y="198108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315200" y="1828800"/>
            <a:ext cx="8380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3520" y="2819520"/>
            <a:ext cx="1600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191120" y="1752480"/>
            <a:ext cx="144756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licerol-3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934320" y="2666880"/>
            <a:ext cx="20574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tros Fosfo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038480" y="2514600"/>
            <a:ext cx="1752840" cy="642600"/>
          </a:xfrm>
          <a:prstGeom prst="rect">
            <a:avLst/>
          </a:prstGeom>
          <a:solidFill>
            <a:srgbClr val="f9fda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CIDO FOSFATI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038480" y="3505320"/>
            <a:ext cx="20574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DP-diacil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7086600" y="3429000"/>
            <a:ext cx="182880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inos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267080" y="4495680"/>
            <a:ext cx="175284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629400" y="4648320"/>
            <a:ext cx="190512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 gli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4038480" y="5257800"/>
            <a:ext cx="23623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4419720" y="6095880"/>
            <a:ext cx="175248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sfatidil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76320" y="5257800"/>
            <a:ext cx="160020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tanol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80880" y="6100920"/>
            <a:ext cx="990720" cy="368280"/>
          </a:xfrm>
          <a:prstGeom prst="rect">
            <a:avLst/>
          </a:prstGeom>
          <a:solidFill>
            <a:srgbClr val="f9fda1"/>
          </a:solidFill>
          <a:ln w="9360">
            <a:solidFill>
              <a:srgbClr val="f9fd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6781680" y="5562720"/>
            <a:ext cx="14479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dioli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28195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182880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3520" y="129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70866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4038480" y="1066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Calibri"/>
              </a:rPr>
              <a:t>EUCARIOTAS Y PROCARI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144792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3124080" y="5181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2438280" y="6095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45720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alibri"/>
              </a:rPr>
              <a:t>C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3276720" y="58053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D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60958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G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74320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333ff"/>
                </a:solidFill>
                <a:latin typeface="Calibri"/>
              </a:rPr>
              <a:t>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5029200" y="2133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2 Acil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4191120" y="40384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S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095880" y="3200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ff"/>
                </a:solidFill>
                <a:latin typeface="Calibri"/>
              </a:rPr>
              <a:t>Inosi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752480" y="54864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4"/>
          <p:cNvSpPr/>
          <p:nvPr/>
        </p:nvSpPr>
        <p:spPr>
          <a:xfrm>
            <a:off x="3048120" y="54864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>
            <a:off x="2438280" y="6400800"/>
            <a:ext cx="7621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7"/>
          <p:cNvSpPr/>
          <p:nvPr/>
        </p:nvSpPr>
        <p:spPr>
          <a:xfrm>
            <a:off x="3505320" y="6400800"/>
            <a:ext cx="7617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5334120" y="5715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>
            <a:off x="2286000" y="2209680"/>
            <a:ext cx="152388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0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1"/>
          <p:cNvSpPr/>
          <p:nvPr/>
        </p:nvSpPr>
        <p:spPr>
          <a:xfrm>
            <a:off x="7391520" y="51055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2286000" y="2742840"/>
            <a:ext cx="1600200" cy="30492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3"/>
          <p:cNvSpPr/>
          <p:nvPr/>
        </p:nvSpPr>
        <p:spPr>
          <a:xfrm>
            <a:off x="5181480" y="40384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4"/>
          <p:cNvSpPr/>
          <p:nvPr/>
        </p:nvSpPr>
        <p:spPr>
          <a:xfrm>
            <a:off x="5105520" y="32004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5029200" y="2133720"/>
            <a:ext cx="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6"/>
          <p:cNvSpPr/>
          <p:nvPr/>
        </p:nvSpPr>
        <p:spPr>
          <a:xfrm flipH="1">
            <a:off x="5943600" y="2286000"/>
            <a:ext cx="137160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5638680" y="3962520"/>
            <a:ext cx="12193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8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9"/>
          <p:cNvSpPr/>
          <p:nvPr/>
        </p:nvSpPr>
        <p:spPr>
          <a:xfrm>
            <a:off x="6248520" y="358128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http://laguiadelasvitaminas.com/wp-content/uploads/2014/03/Alimentos-ricos-en-colesterol.jpg"/>
          <p:cNvPicPr/>
          <p:nvPr/>
        </p:nvPicPr>
        <p:blipFill>
          <a:blip r:embed="rId1"/>
          <a:stretch/>
        </p:blipFill>
        <p:spPr>
          <a:xfrm>
            <a:off x="792000" y="3971880"/>
            <a:ext cx="3637080" cy="2457360"/>
          </a:xfrm>
          <a:prstGeom prst="rect">
            <a:avLst/>
          </a:prstGeom>
          <a:ln w="0">
            <a:noFill/>
          </a:ln>
        </p:spPr>
      </p:pic>
      <p:sp>
        <p:nvSpPr>
          <p:cNvPr id="259" name="5 CuadroTexto"/>
          <p:cNvSpPr/>
          <p:nvPr/>
        </p:nvSpPr>
        <p:spPr>
          <a:xfrm>
            <a:off x="500040" y="642960"/>
            <a:ext cx="828684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Calibri"/>
              </a:rPr>
              <a:t>METABOLISMO DEL C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Text Box 11" descr=""/>
          <p:cNvPicPr/>
          <p:nvPr/>
        </p:nvPicPr>
        <p:blipFill>
          <a:blip r:embed="rId2"/>
          <a:stretch/>
        </p:blipFill>
        <p:spPr>
          <a:xfrm>
            <a:off x="328680" y="1378080"/>
            <a:ext cx="8772480" cy="347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fi19p17"/>
          <p:cNvPicPr/>
          <p:nvPr/>
        </p:nvPicPr>
        <p:blipFill>
          <a:blip r:embed="rId3"/>
          <a:srcRect l="7480" t="26347" r="6693" b="35523"/>
          <a:stretch/>
        </p:blipFill>
        <p:spPr>
          <a:xfrm>
            <a:off x="5000760" y="5114880"/>
            <a:ext cx="2958840" cy="1743120"/>
          </a:xfrm>
          <a:prstGeom prst="rect">
            <a:avLst/>
          </a:prstGeom>
          <a:ln w="0">
            <a:noFill/>
          </a:ln>
        </p:spPr>
      </p:pic>
      <p:sp>
        <p:nvSpPr>
          <p:cNvPr id="262" name="10 CuadroTexto"/>
          <p:cNvSpPr/>
          <p:nvPr/>
        </p:nvSpPr>
        <p:spPr>
          <a:xfrm>
            <a:off x="5857920" y="65721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ttp://www.cientic.com/imagens/qi/heterotrofia/heterotrofia_04.png"/>
          <p:cNvPicPr/>
          <p:nvPr/>
        </p:nvPicPr>
        <p:blipFill>
          <a:blip r:embed="rId1"/>
          <a:stretch/>
        </p:blipFill>
        <p:spPr>
          <a:xfrm>
            <a:off x="0" y="2786040"/>
            <a:ext cx="6375240" cy="435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s://encrypted-tbn1.gstatic.com/images?q=tbn:ANd9GcT676jW9v0oYR4mfAxb8q4tKfBEqcWjc24eZLPrwxCuWJgDs33k"/>
          <p:cNvPicPr/>
          <p:nvPr/>
        </p:nvPicPr>
        <p:blipFill>
          <a:blip r:embed="rId2"/>
          <a:stretch/>
        </p:blipFill>
        <p:spPr>
          <a:xfrm>
            <a:off x="6551640" y="3798720"/>
            <a:ext cx="2179440" cy="2559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http://html.rincondelvago.com/000250193.jpg"/>
          <p:cNvPicPr/>
          <p:nvPr/>
        </p:nvPicPr>
        <p:blipFill>
          <a:blip r:embed="rId3"/>
          <a:stretch/>
        </p:blipFill>
        <p:spPr>
          <a:xfrm>
            <a:off x="2428920" y="571680"/>
            <a:ext cx="3422520" cy="2228760"/>
          </a:xfrm>
          <a:prstGeom prst="rect">
            <a:avLst/>
          </a:prstGeom>
          <a:ln w="0">
            <a:noFill/>
          </a:ln>
        </p:spPr>
      </p:pic>
      <p:sp>
        <p:nvSpPr>
          <p:cNvPr id="266" name="7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0" y="785880"/>
            <a:ext cx="2928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Constituy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de las membranas biológ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relación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la fl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http://html.rincondelvago.com/000250194.jpg"/>
          <p:cNvPicPr/>
          <p:nvPr/>
        </p:nvPicPr>
        <p:blipFill>
          <a:blip r:embed="rId4"/>
          <a:stretch/>
        </p:blipFill>
        <p:spPr>
          <a:xfrm>
            <a:off x="5597640" y="500040"/>
            <a:ext cx="3546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406600" y="500040"/>
            <a:ext cx="45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Precursor de importantes biomolé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 CuadroTexto"/>
          <p:cNvSpPr/>
          <p:nvPr/>
        </p:nvSpPr>
        <p:spPr>
          <a:xfrm>
            <a:off x="1741680" y="0"/>
            <a:ext cx="58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mic Sans MS"/>
              </a:rPr>
              <a:t>¿Qué funciones cumple el Coleste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CuadroTexto"/>
          <p:cNvSpPr/>
          <p:nvPr/>
        </p:nvSpPr>
        <p:spPr>
          <a:xfrm>
            <a:off x="3727080" y="1143000"/>
            <a:ext cx="2261160" cy="4597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1 CuadroTexto"/>
          <p:cNvSpPr/>
          <p:nvPr/>
        </p:nvSpPr>
        <p:spPr>
          <a:xfrm>
            <a:off x="428760" y="1071720"/>
            <a:ext cx="16794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Hor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esteroi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2 CuadroTexto"/>
          <p:cNvSpPr/>
          <p:nvPr/>
        </p:nvSpPr>
        <p:spPr>
          <a:xfrm>
            <a:off x="7286760" y="1000080"/>
            <a:ext cx="1357200" cy="703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3 CuadroTexto"/>
          <p:cNvSpPr/>
          <p:nvPr/>
        </p:nvSpPr>
        <p:spPr>
          <a:xfrm>
            <a:off x="4502520" y="1928880"/>
            <a:ext cx="759960" cy="398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Vi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5 Conector recto"/>
          <p:cNvSpPr/>
          <p:nvPr/>
        </p:nvSpPr>
        <p:spPr>
          <a:xfrm flipH="1" flipV="1">
            <a:off x="2214360" y="1213920"/>
            <a:ext cx="1500120" cy="15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1 Conector recto"/>
          <p:cNvSpPr/>
          <p:nvPr/>
        </p:nvSpPr>
        <p:spPr>
          <a:xfrm flipV="1">
            <a:off x="6000840" y="1213920"/>
            <a:ext cx="1214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9600" y="2560680"/>
            <a:ext cx="3675240" cy="4270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2428920" y="2214720"/>
            <a:ext cx="1928880" cy="1536480"/>
          </a:xfrm>
          <a:prstGeom prst="rect">
            <a:avLst/>
          </a:prstGeom>
          <a:ln w="0">
            <a:noFill/>
          </a:ln>
        </p:spPr>
      </p:pic>
      <p:sp>
        <p:nvSpPr>
          <p:cNvPr id="279" name="41 Conector recto"/>
          <p:cNvSpPr/>
          <p:nvPr/>
        </p:nvSpPr>
        <p:spPr>
          <a:xfrm>
            <a:off x="4857840" y="1604880"/>
            <a:ext cx="23760" cy="3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http://ocw.innova.uned.es/biologia/contenidos/bio/img/esteroides.jpg"/>
          <p:cNvPicPr/>
          <p:nvPr/>
        </p:nvPicPr>
        <p:blipFill>
          <a:blip r:embed="rId3"/>
          <a:stretch/>
        </p:blipFill>
        <p:spPr>
          <a:xfrm>
            <a:off x="4210200" y="3357720"/>
            <a:ext cx="4933800" cy="3181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http://www.metabolismo.biz/web/wp-content/uploads/Fig-2-Acidos-biliares.gif"/>
          <p:cNvPicPr/>
          <p:nvPr/>
        </p:nvPicPr>
        <p:blipFill>
          <a:blip r:embed="rId4"/>
          <a:stretch/>
        </p:blipFill>
        <p:spPr>
          <a:xfrm>
            <a:off x="6726240" y="1857240"/>
            <a:ext cx="4703760" cy="1285920"/>
          </a:xfrm>
          <a:prstGeom prst="rect">
            <a:avLst/>
          </a:prstGeom>
          <a:ln w="0">
            <a:noFill/>
          </a:ln>
        </p:spPr>
      </p:pic>
      <p:sp>
        <p:nvSpPr>
          <p:cNvPr id="282" name="61 Conector recto"/>
          <p:cNvSpPr/>
          <p:nvPr/>
        </p:nvSpPr>
        <p:spPr>
          <a:xfrm flipV="1">
            <a:off x="1712160" y="1785600"/>
            <a:ext cx="180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COLESTEROL</a:t>
            </a:r>
            <a:br>
              <a:rPr sz="2900"/>
            </a:br>
            <a:r>
              <a:rPr b="1" lang="es-ES" sz="2900" spc="-1" strike="noStrike">
                <a:solidFill>
                  <a:srgbClr val="c00000"/>
                </a:solidFill>
                <a:latin typeface="Calibri"/>
              </a:rPr>
              <a:t>Estructura química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3" descr="fi19p17"/>
          <p:cNvPicPr/>
          <p:nvPr/>
        </p:nvPicPr>
        <p:blipFill>
          <a:blip r:embed="rId1"/>
          <a:srcRect l="13517" t="63605" r="13386" b="4452"/>
          <a:stretch/>
        </p:blipFill>
        <p:spPr>
          <a:xfrm>
            <a:off x="1071720" y="4351320"/>
            <a:ext cx="3746520" cy="236376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4"/>
          <p:cNvGrpSpPr/>
          <p:nvPr/>
        </p:nvGrpSpPr>
        <p:grpSpPr>
          <a:xfrm>
            <a:off x="250920" y="1546200"/>
            <a:ext cx="3528720" cy="2311200"/>
            <a:chOff x="250920" y="1546200"/>
            <a:chExt cx="3528720" cy="2311200"/>
          </a:xfrm>
        </p:grpSpPr>
        <p:pic>
          <p:nvPicPr>
            <p:cNvPr id="286" name="Picture 5" descr="fi19p17"/>
            <p:cNvPicPr/>
            <p:nvPr/>
          </p:nvPicPr>
          <p:blipFill>
            <a:blip r:embed="rId2"/>
            <a:srcRect l="24003" t="0" r="24252" b="79141"/>
            <a:stretch/>
          </p:blipFill>
          <p:spPr>
            <a:xfrm>
              <a:off x="325080" y="1546200"/>
              <a:ext cx="30787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250920" y="3520080"/>
              <a:ext cx="352872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iclopentanoperhidrofenantr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4430880" y="1542960"/>
            <a:ext cx="4386240" cy="2814840"/>
            <a:chOff x="4430880" y="1542960"/>
            <a:chExt cx="4386240" cy="2814840"/>
          </a:xfrm>
        </p:grpSpPr>
        <p:pic>
          <p:nvPicPr>
            <p:cNvPr id="289" name="Picture 8" descr="fi19p17"/>
            <p:cNvPicPr/>
            <p:nvPr/>
          </p:nvPicPr>
          <p:blipFill>
            <a:blip r:embed="rId3"/>
            <a:srcRect l="7480" t="26347" r="6693" b="35523"/>
            <a:stretch/>
          </p:blipFill>
          <p:spPr>
            <a:xfrm>
              <a:off x="4430880" y="1542960"/>
              <a:ext cx="438624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867280" y="3917880"/>
              <a:ext cx="165600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9 CuadroTexto"/>
          <p:cNvSpPr/>
          <p:nvPr/>
        </p:nvSpPr>
        <p:spPr>
          <a:xfrm>
            <a:off x="6730560" y="85716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epasemo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Rectángulo"/>
          <p:cNvSpPr/>
          <p:nvPr/>
        </p:nvSpPr>
        <p:spPr>
          <a:xfrm>
            <a:off x="257184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Arial"/>
              </a:rPr>
              <a:t>LOS LÍ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Se pueden clasificar po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complejidad de sus moléculas</a:t>
            </a:r>
            <a:r>
              <a:rPr b="0" lang="es-AR" sz="1800" spc="-1" strike="noStrike">
                <a:solidFill>
                  <a:srgbClr val="c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7560" y="33577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00000"/>
                </a:solidFill>
                <a:latin typeface="Arial"/>
              </a:rPr>
              <a:t>Lípido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2357280" y="1073160"/>
            <a:ext cx="44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Ácidos grasos li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2428920" y="285768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b050"/>
                </a:solidFill>
                <a:latin typeface="Calibri"/>
              </a:rPr>
              <a:t>Fosfo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Glicolíp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b050"/>
                </a:solidFill>
                <a:latin typeface="Calibri"/>
              </a:rPr>
              <a:t>Lipo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CuadroTexto"/>
          <p:cNvSpPr/>
          <p:nvPr/>
        </p:nvSpPr>
        <p:spPr>
          <a:xfrm>
            <a:off x="2509560" y="4786200"/>
            <a:ext cx="2441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Calibri"/>
              </a:rPr>
              <a:t>Aso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Es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Terp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Prostagland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Abrir llave"/>
          <p:cNvSpPr/>
          <p:nvPr/>
        </p:nvSpPr>
        <p:spPr>
          <a:xfrm>
            <a:off x="2286000" y="1214280"/>
            <a:ext cx="71280" cy="128592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1285920"/>
              <a:gd name="textAreaBottom" fmla="*/ 12841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"/>
                  <a:pt x="10800" y="100"/>
                </a:cubicBezTo>
                <a:lnTo>
                  <a:pt x="10800" y="10700"/>
                </a:lnTo>
                <a:cubicBezTo>
                  <a:pt x="10800" y="10750"/>
                  <a:pt x="5400" y="10800"/>
                  <a:pt x="0" y="10800"/>
                </a:cubicBezTo>
                <a:cubicBezTo>
                  <a:pt x="5400" y="10800"/>
                  <a:pt x="10800" y="10850"/>
                  <a:pt x="10800" y="10900"/>
                </a:cubicBezTo>
                <a:lnTo>
                  <a:pt x="10800" y="21500"/>
                </a:lnTo>
                <a:cubicBezTo>
                  <a:pt x="10800" y="215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9 Abrir llave"/>
          <p:cNvSpPr/>
          <p:nvPr/>
        </p:nvSpPr>
        <p:spPr>
          <a:xfrm>
            <a:off x="2295360" y="3000240"/>
            <a:ext cx="61920" cy="1428840"/>
          </a:xfrm>
          <a:custGeom>
            <a:avLst/>
            <a:gdLst>
              <a:gd name="textAreaLeft" fmla="*/ 39600 w 61920"/>
              <a:gd name="textAreaRight" fmla="*/ 62280 w 61920"/>
              <a:gd name="textAreaTop" fmla="*/ 1440 h 1428840"/>
              <a:gd name="textAreaBottom" fmla="*/ 142740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"/>
                  <a:pt x="10800" y="78"/>
                </a:cubicBezTo>
                <a:lnTo>
                  <a:pt x="10800" y="10722"/>
                </a:lnTo>
                <a:cubicBezTo>
                  <a:pt x="10800" y="10761"/>
                  <a:pt x="5400" y="10800"/>
                  <a:pt x="0" y="10800"/>
                </a:cubicBezTo>
                <a:cubicBezTo>
                  <a:pt x="5400" y="10800"/>
                  <a:pt x="10800" y="10839"/>
                  <a:pt x="10800" y="10878"/>
                </a:cubicBezTo>
                <a:lnTo>
                  <a:pt x="10800" y="21522"/>
                </a:lnTo>
                <a:cubicBezTo>
                  <a:pt x="10800" y="21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0 Abrir llave"/>
          <p:cNvSpPr/>
          <p:nvPr/>
        </p:nvSpPr>
        <p:spPr>
          <a:xfrm>
            <a:off x="2357280" y="4714920"/>
            <a:ext cx="71640" cy="19288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1928880"/>
              <a:gd name="textAreaBottom" fmla="*/ 192708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"/>
                  <a:pt x="10800" y="67"/>
                </a:cubicBezTo>
                <a:lnTo>
                  <a:pt x="10800" y="10733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4"/>
                  <a:pt x="10800" y="10867"/>
                </a:cubicBezTo>
                <a:lnTo>
                  <a:pt x="10800" y="21533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1 Conector recto"/>
          <p:cNvSpPr/>
          <p:nvPr/>
        </p:nvSpPr>
        <p:spPr>
          <a:xfrm flipV="1">
            <a:off x="928080" y="1857240"/>
            <a:ext cx="1214280" cy="1500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2 Conector recto"/>
          <p:cNvSpPr/>
          <p:nvPr/>
        </p:nvSpPr>
        <p:spPr>
          <a:xfrm>
            <a:off x="1000080" y="3786120"/>
            <a:ext cx="1143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3 Conector recto"/>
          <p:cNvSpPr/>
          <p:nvPr/>
        </p:nvSpPr>
        <p:spPr>
          <a:xfrm>
            <a:off x="851760" y="3941640"/>
            <a:ext cx="129060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rigi+1"/>
          <p:cNvPicPr/>
          <p:nvPr/>
        </p:nvPicPr>
        <p:blipFill>
          <a:blip r:embed="rId1"/>
          <a:stretch/>
        </p:blipFill>
        <p:spPr>
          <a:xfrm>
            <a:off x="5948280" y="857160"/>
            <a:ext cx="319572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857840" y="3286080"/>
            <a:ext cx="2820960" cy="1087560"/>
          </a:xfrm>
          <a:prstGeom prst="rect">
            <a:avLst/>
          </a:prstGeom>
          <a:ln w="0">
            <a:noFill/>
          </a:ln>
        </p:spPr>
      </p:pic>
      <p:sp>
        <p:nvSpPr>
          <p:cNvPr id="61" name="22 CuadroTexto"/>
          <p:cNvSpPr/>
          <p:nvPr/>
        </p:nvSpPr>
        <p:spPr>
          <a:xfrm>
            <a:off x="7434000" y="357192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osfoglicér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6000840" y="4857840"/>
            <a:ext cx="2576520" cy="1638360"/>
          </a:xfrm>
          <a:prstGeom prst="rect">
            <a:avLst/>
          </a:prstGeom>
          <a:ln w="0">
            <a:noFill/>
          </a:ln>
        </p:spPr>
      </p:pic>
      <p:sp>
        <p:nvSpPr>
          <p:cNvPr id="63" name="24 CuadroTexto"/>
          <p:cNvSpPr/>
          <p:nvPr/>
        </p:nvSpPr>
        <p:spPr>
          <a:xfrm>
            <a:off x="6290640" y="514368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oleste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CuadroTexto"/>
          <p:cNvSpPr/>
          <p:nvPr/>
        </p:nvSpPr>
        <p:spPr>
          <a:xfrm>
            <a:off x="207180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_x0010_Fig 21-30.GIF060                                               0000691B_x0013_Sumanas' Hard Drive            B4EBCDA7:"/>
          <p:cNvPicPr/>
          <p:nvPr/>
        </p:nvPicPr>
        <p:blipFill>
          <a:blip r:embed="rId1"/>
          <a:stretch/>
        </p:blipFill>
        <p:spPr>
          <a:xfrm>
            <a:off x="1428840" y="214308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294" name="4 CuadroTexto"/>
          <p:cNvSpPr/>
          <p:nvPr/>
        </p:nvSpPr>
        <p:spPr>
          <a:xfrm>
            <a:off x="600084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572080" y="422604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os C negros derivan del grupo metilo del 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alibri"/>
              </a:rPr>
              <a:t>Los C rojos derivan del carboxilo del Ace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CuadroTexto"/>
          <p:cNvSpPr/>
          <p:nvPr/>
        </p:nvSpPr>
        <p:spPr>
          <a:xfrm>
            <a:off x="4500720" y="9288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Origen de los áto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de C del 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CuadroTexto"/>
          <p:cNvSpPr/>
          <p:nvPr/>
        </p:nvSpPr>
        <p:spPr>
          <a:xfrm>
            <a:off x="1507320" y="2714760"/>
            <a:ext cx="1442520" cy="764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Ace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libri"/>
              </a:rPr>
              <a:t>(Acetil-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CuadroTexto"/>
          <p:cNvSpPr/>
          <p:nvPr/>
        </p:nvSpPr>
        <p:spPr>
          <a:xfrm>
            <a:off x="3779280" y="5324400"/>
            <a:ext cx="16711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974520" y="12142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os 27 átomos de C provie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e un único pre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0 Llamada con línea 3"/>
          <p:cNvSpPr/>
          <p:nvPr/>
        </p:nvSpPr>
        <p:spPr>
          <a:xfrm>
            <a:off x="714240" y="1214280"/>
            <a:ext cx="36435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191" y="3591"/>
                </a:moveTo>
                <a:lnTo>
                  <a:pt x="-3519" y="3591"/>
                </a:lnTo>
                <a:lnTo>
                  <a:pt x="-3600" y="21600"/>
                </a:lnTo>
                <a:lnTo>
                  <a:pt x="4767" y="43330"/>
                </a:ln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2 CuadroTexto"/>
          <p:cNvSpPr/>
          <p:nvPr/>
        </p:nvSpPr>
        <p:spPr>
          <a:xfrm>
            <a:off x="285840" y="857160"/>
            <a:ext cx="8501040" cy="5639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Todos los átomos de carbono del colesterol provienen d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grupo acetilo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de un Acil-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Las enzimas que participan son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citoplasmáticas 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con la excepción de una (</a:t>
            </a:r>
            <a:r>
              <a:rPr b="1" i="1" lang="es-PE" sz="2800" spc="-1" strike="noStrike">
                <a:solidFill>
                  <a:srgbClr val="000000"/>
                </a:solidFill>
                <a:latin typeface="Calibri"/>
              </a:rPr>
              <a:t>escualeno oxidasa</a:t>
            </a: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) que es microsomal (Retículo endoplásm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El agente reductor en las reacciones de biosíntesis es el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alibri"/>
              </a:rPr>
              <a:t>- Los tejidos más activos en esta síntesis son: hígado, intestino, corteza suprarrenal, gónadas, músculo, piel y tejido adip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Etapas genera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Formación de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Hidroximetil glutaril-CoA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(HMG-CoA) a partir de Acetil-CoA (6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Conversiòn de HMG-CoA en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Escuale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(30 carbon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Conversión de Escualeno en </a:t>
            </a:r>
            <a:r>
              <a:rPr b="1" lang="es-AR" sz="2600" spc="-1" strike="noStrike">
                <a:solidFill>
                  <a:srgbClr val="c00000"/>
                </a:solidFill>
                <a:latin typeface="Arial"/>
                <a:ea typeface="Arial"/>
              </a:rPr>
              <a:t>Coleste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  <a:ea typeface="Arial"/>
              </a:rPr>
              <a:t>a través de 20 reacciones (27 carbon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51894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5286240" y="142920"/>
            <a:ext cx="295272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ondensación de acetatos (Acetil-CoA) para formar  Mevalon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a través de HMG-C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5405400" y="1285920"/>
            <a:ext cx="29527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onversión de Mevalonato en unidades de Isopreno activado (I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477040" y="3354480"/>
            <a:ext cx="30240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olimerización de las unidades de Isopreno para dar lugar al Escual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715000" y="5711760"/>
            <a:ext cx="2017800" cy="8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Ciclac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ó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 del Escualeno a Lanosterol y conversión a Coleste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 rot="16200000">
            <a:off x="-3127680" y="3229560"/>
            <a:ext cx="6858000" cy="398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IOSÍNTESIS DE COLESTEROL (fases princip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8 CuadroTexto"/>
          <p:cNvSpPr/>
          <p:nvPr/>
        </p:nvSpPr>
        <p:spPr>
          <a:xfrm>
            <a:off x="571680" y="642960"/>
            <a:ext cx="928440" cy="45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9 CuadroTexto"/>
          <p:cNvSpPr/>
          <p:nvPr/>
        </p:nvSpPr>
        <p:spPr>
          <a:xfrm>
            <a:off x="571680" y="2395440"/>
            <a:ext cx="92844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571680" y="4896000"/>
            <a:ext cx="928440" cy="459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io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13840" y="714240"/>
            <a:ext cx="8572680" cy="614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etapas en la ruta de biosíntesis de colesterol que se pueden agrupar en 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 Estad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rmación de </a:t>
            </a:r>
            <a:r>
              <a:rPr b="1" lang="es-AR" sz="2800" spc="-1" strike="noStrike">
                <a:solidFill>
                  <a:srgbClr val="0000cc"/>
                </a:solidFill>
                <a:latin typeface="Calibri"/>
              </a:rPr>
              <a:t>Hidroximetil glutaril-CoA (HMG-CoA)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    partir de Acetil-CoA (6 Carbo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ducción de HMG-CoA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Acido Mevalónico (Mevalonato) </a:t>
            </a:r>
            <a:r>
              <a:rPr b="0" lang="es-ES_tradnl" sz="2800" spc="-1" strike="noStrike">
                <a:solidFill>
                  <a:srgbClr val="0000cc"/>
                </a:solidFill>
                <a:latin typeface="Calibri"/>
              </a:rPr>
              <a:t>(6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.-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Fosforilación y descarboxilación de Mevalonato para </a:t>
            </a:r>
            <a:r>
              <a:rPr b="0" lang="es-AR" sz="2800" spc="-1" strike="noStrike">
                <a:solidFill>
                  <a:srgbClr val="0000cc"/>
                </a:solidFill>
                <a:latin typeface="Calibri"/>
              </a:rPr>
              <a:t>dar </a:t>
            </a:r>
            <a:r>
              <a:rPr b="1" lang="es-ES_tradnl" sz="28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 : Acetatos</a:t>
            </a:r>
            <a:r>
              <a:rPr b="1" lang="es-AR" sz="2800" spc="-1" strike="noStrike">
                <a:solidFill>
                  <a:srgbClr val="c00000"/>
                </a:solidFill>
                <a:latin typeface="Calibri"/>
              </a:rPr>
              <a:t>                I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6 Conector recto de flecha"/>
          <p:cNvCxnSpPr/>
          <p:nvPr/>
        </p:nvCxnSpPr>
        <p:spPr>
          <a:xfrm>
            <a:off x="3643200" y="621504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"/>
          <p:cNvGrpSpPr/>
          <p:nvPr/>
        </p:nvGrpSpPr>
        <p:grpSpPr>
          <a:xfrm>
            <a:off x="714240" y="1571760"/>
            <a:ext cx="5143320" cy="1224000"/>
            <a:chOff x="714240" y="1571760"/>
            <a:chExt cx="5143320" cy="1224000"/>
          </a:xfrm>
        </p:grpSpPr>
        <p:sp>
          <p:nvSpPr>
            <p:cNvPr id="319" name="Text Box 4"/>
            <p:cNvSpPr/>
            <p:nvPr/>
          </p:nvSpPr>
          <p:spPr>
            <a:xfrm>
              <a:off x="714240" y="1773360"/>
              <a:ext cx="250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Precur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"/>
            <p:cNvSpPr/>
            <p:nvPr/>
          </p:nvSpPr>
          <p:spPr>
            <a:xfrm>
              <a:off x="2427120" y="1571760"/>
              <a:ext cx="600840" cy="1224000"/>
            </a:xfrm>
            <a:custGeom>
              <a:avLst/>
              <a:gdLst>
                <a:gd name="textAreaLeft" fmla="*/ 383760 w 600840"/>
                <a:gd name="textAreaRight" fmla="*/ 600840 w 6008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3050280" y="1857600"/>
              <a:ext cx="28072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2 Acetil-Co  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Ti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"/>
          <p:cNvGrpSpPr/>
          <p:nvPr/>
        </p:nvGrpSpPr>
        <p:grpSpPr>
          <a:xfrm>
            <a:off x="4786200" y="1571760"/>
            <a:ext cx="4071600" cy="745200"/>
            <a:chOff x="4786200" y="1571760"/>
            <a:chExt cx="4071600" cy="745200"/>
          </a:xfrm>
        </p:grpSpPr>
        <p:sp>
          <p:nvSpPr>
            <p:cNvPr id="323" name="Text Box 8"/>
            <p:cNvSpPr/>
            <p:nvPr/>
          </p:nvSpPr>
          <p:spPr>
            <a:xfrm>
              <a:off x="6144120" y="1857240"/>
              <a:ext cx="27136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</a:t>
              </a:r>
              <a:r>
                <a:rPr b="1" lang="es-ES" sz="1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9"/>
            <p:cNvSpPr/>
            <p:nvPr/>
          </p:nvSpPr>
          <p:spPr>
            <a:xfrm>
              <a:off x="4786200" y="1571760"/>
              <a:ext cx="1571760" cy="357120"/>
            </a:xfrm>
            <a:custGeom>
              <a:avLst/>
              <a:gdLst>
                <a:gd name="textAreaLeft" fmla="*/ 318600 w 1571760"/>
                <a:gd name="textAreaRight" fmla="*/ 1193760 w 1571760"/>
                <a:gd name="textAreaTop" fmla="*/ 47880 h 357120"/>
                <a:gd name="textAreaBottom" fmla="*/ 30924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60" hR="21600" stAng="10800000" swAng="5400000"/>
                  <a:lnTo>
                    <a:pt x="12027" y="0"/>
                  </a:lnTo>
                  <a:arcTo wR="8760" hR="21600" stAng="-5400000" swAng="2935036"/>
                  <a:lnTo>
                    <a:pt x="21099" y="14400"/>
                  </a:lnTo>
                  <a:lnTo>
                    <a:pt x="19153" y="21600"/>
                  </a:lnTo>
                  <a:lnTo>
                    <a:pt x="16204" y="14400"/>
                  </a:lnTo>
                  <a:lnTo>
                    <a:pt x="17018" y="14400"/>
                  </a:lnTo>
                  <a:arcTo wR="8760" hR="21600" stAng="-2464964" swAng="-2670935"/>
                  <a:lnTo>
                    <a:pt x="10393" y="379"/>
                  </a:lnTo>
                  <a:arcTo wR="8760" hR="21600" stAng="-5664101" swAng="-5135899"/>
                  <a:close/>
                </a:path>
                <a:path fill="darkenLess" w="21600" h="21600">
                  <a:moveTo>
                    <a:pt x="0" y="21600"/>
                  </a:moveTo>
                  <a:arcTo wR="8760" hR="21600" stAng="10800000" swAng="5400000"/>
                  <a:lnTo>
                    <a:pt x="8760" y="0"/>
                  </a:lnTo>
                  <a:arcTo wR="8760" hR="21600" stAng="-5400000" swAng="264101"/>
                  <a:lnTo>
                    <a:pt x="10393" y="379"/>
                  </a:lnTo>
                  <a:arcTo wR="8760" hR="21600" stAng="-5664101" swAng="-5135899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539640" y="3044880"/>
            <a:ext cx="8175600" cy="1275480"/>
            <a:chOff x="539640" y="3044880"/>
            <a:chExt cx="8175600" cy="1275480"/>
          </a:xfrm>
        </p:grpSpPr>
        <p:pic>
          <p:nvPicPr>
            <p:cNvPr id="326" name="Picture 11" descr="fi19p18"/>
            <p:cNvPicPr/>
            <p:nvPr/>
          </p:nvPicPr>
          <p:blipFill>
            <a:blip r:embed="rId1"/>
            <a:srcRect l="0" t="15842" r="0" b="61571"/>
            <a:stretch/>
          </p:blipFill>
          <p:spPr>
            <a:xfrm>
              <a:off x="4572000" y="3044880"/>
              <a:ext cx="403236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12"/>
            <p:cNvSpPr/>
            <p:nvPr/>
          </p:nvSpPr>
          <p:spPr>
            <a:xfrm>
              <a:off x="539640" y="3213000"/>
              <a:ext cx="2087640" cy="82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504d"/>
                  </a:solidFill>
                  <a:latin typeface="Calibri"/>
                </a:rPr>
                <a:t>Acetoacetil-CoA </a:t>
              </a:r>
              <a:r>
                <a:rPr b="1" lang="es-ES" sz="2000" spc="-1" strike="noStrike">
                  <a:solidFill>
                    <a:srgbClr val="c0504d"/>
                  </a:solidFill>
                  <a:latin typeface="Calibri"/>
                </a:rPr>
                <a:t>(4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2843280" y="3573360"/>
              <a:ext cx="165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6500880" y="3860640"/>
              <a:ext cx="22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HMG-CoA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1476360" y="4292640"/>
            <a:ext cx="3311640" cy="1579320"/>
            <a:chOff x="1476360" y="4292640"/>
            <a:chExt cx="3311640" cy="1579320"/>
          </a:xfrm>
        </p:grpSpPr>
        <p:sp>
          <p:nvSpPr>
            <p:cNvPr id="331" name="Line 16"/>
            <p:cNvSpPr/>
            <p:nvPr/>
          </p:nvSpPr>
          <p:spPr>
            <a:xfrm flipH="1">
              <a:off x="3059280" y="4292640"/>
              <a:ext cx="172872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7"/>
            <p:cNvSpPr/>
            <p:nvPr/>
          </p:nvSpPr>
          <p:spPr>
            <a:xfrm>
              <a:off x="1476360" y="5229360"/>
              <a:ext cx="1582920" cy="642600"/>
            </a:xfrm>
            <a:prstGeom prst="rect">
              <a:avLst/>
            </a:prstGeom>
            <a:noFill/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uerpos cetó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8"/>
          <p:cNvGrpSpPr/>
          <p:nvPr/>
        </p:nvGrpSpPr>
        <p:grpSpPr>
          <a:xfrm>
            <a:off x="4643280" y="4292640"/>
            <a:ext cx="4143240" cy="1008000"/>
            <a:chOff x="4643280" y="4292640"/>
            <a:chExt cx="4143240" cy="1008000"/>
          </a:xfrm>
        </p:grpSpPr>
        <p:sp>
          <p:nvSpPr>
            <p:cNvPr id="334" name="Line 19"/>
            <p:cNvSpPr/>
            <p:nvPr/>
          </p:nvSpPr>
          <p:spPr>
            <a:xfrm>
              <a:off x="6227640" y="4292640"/>
              <a:ext cx="0" cy="100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0"/>
            <p:cNvSpPr/>
            <p:nvPr/>
          </p:nvSpPr>
          <p:spPr>
            <a:xfrm>
              <a:off x="6443640" y="4508640"/>
              <a:ext cx="234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Calibri"/>
                </a:rPr>
                <a:t>HMG-CoA reductasa (RE li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1"/>
            <p:cNvSpPr/>
            <p:nvPr/>
          </p:nvSpPr>
          <p:spPr>
            <a:xfrm>
              <a:off x="4643280" y="4365720"/>
              <a:ext cx="165564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2 NADPH + 2H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2"/>
          <p:cNvGrpSpPr/>
          <p:nvPr/>
        </p:nvGrpSpPr>
        <p:grpSpPr>
          <a:xfrm>
            <a:off x="3995640" y="4653000"/>
            <a:ext cx="5148360" cy="1972440"/>
            <a:chOff x="3995640" y="4653000"/>
            <a:chExt cx="5148360" cy="1972440"/>
          </a:xfrm>
        </p:grpSpPr>
        <p:pic>
          <p:nvPicPr>
            <p:cNvPr id="338" name="Picture 23" descr="fi19p18"/>
            <p:cNvPicPr/>
            <p:nvPr/>
          </p:nvPicPr>
          <p:blipFill>
            <a:blip r:embed="rId2"/>
            <a:srcRect l="0" t="68700" r="0" b="10637"/>
            <a:stretch/>
          </p:blipFill>
          <p:spPr>
            <a:xfrm>
              <a:off x="4427640" y="5373720"/>
              <a:ext cx="43923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4"/>
            <p:cNvSpPr/>
            <p:nvPr/>
          </p:nvSpPr>
          <p:spPr>
            <a:xfrm>
              <a:off x="6659640" y="6165720"/>
              <a:ext cx="24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cc"/>
                  </a:solidFill>
                  <a:latin typeface="Calibri"/>
                </a:rPr>
                <a:t>Mevalonato </a:t>
              </a:r>
              <a:r>
                <a:rPr b="1" lang="es-ES" sz="2000" spc="-1" strike="noStrike">
                  <a:solidFill>
                    <a:srgbClr val="0000cc"/>
                  </a:solidFill>
                  <a:latin typeface="Calibri"/>
                </a:rPr>
                <a:t>(6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3995640" y="4941720"/>
              <a:ext cx="2016360" cy="337320"/>
            </a:xfrm>
            <a:prstGeom prst="rect">
              <a:avLst/>
            </a:prstGeom>
            <a:solidFill>
              <a:srgbClr val="f6f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oA-SH + 2NADP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6"/>
            <p:cNvSpPr/>
            <p:nvPr/>
          </p:nvSpPr>
          <p:spPr>
            <a:xfrm>
              <a:off x="5796000" y="4653000"/>
              <a:ext cx="288720" cy="360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63000 h 360360"/>
                <a:gd name="textAreaBottom" fmla="*/ 261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7"/>
          <p:cNvGrpSpPr/>
          <p:nvPr/>
        </p:nvGrpSpPr>
        <p:grpSpPr>
          <a:xfrm>
            <a:off x="2771640" y="2924280"/>
            <a:ext cx="1657440" cy="1616400"/>
            <a:chOff x="2771640" y="2924280"/>
            <a:chExt cx="1657440" cy="1616400"/>
          </a:xfrm>
        </p:grpSpPr>
        <p:sp>
          <p:nvSpPr>
            <p:cNvPr id="343" name="Text Box 28"/>
            <p:cNvSpPr/>
            <p:nvPr/>
          </p:nvSpPr>
          <p:spPr>
            <a:xfrm>
              <a:off x="3059280" y="2924280"/>
              <a:ext cx="1368360" cy="13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HMG-CoA sin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Calibri"/>
                </a:rPr>
                <a:t>(citoso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9"/>
            <p:cNvGrpSpPr/>
            <p:nvPr/>
          </p:nvGrpSpPr>
          <p:grpSpPr>
            <a:xfrm>
              <a:off x="2771640" y="3571920"/>
              <a:ext cx="1657440" cy="968760"/>
              <a:chOff x="2771640" y="3571920"/>
              <a:chExt cx="1657440" cy="968760"/>
            </a:xfrm>
          </p:grpSpPr>
          <p:sp>
            <p:nvSpPr>
              <p:cNvPr id="345" name="Text Box 30"/>
              <p:cNvSpPr/>
              <p:nvPr/>
            </p:nvSpPr>
            <p:spPr>
              <a:xfrm>
                <a:off x="2771640" y="3860640"/>
                <a:ext cx="1657440" cy="680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Acetil-Co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+ H</a:t>
                </a:r>
                <a:r>
                  <a:rPr b="1" lang="es-ES" sz="1800" spc="-1" strike="noStrike" baseline="-25000">
                    <a:solidFill>
                      <a:srgbClr val="c0504d"/>
                    </a:solidFill>
                    <a:latin typeface="Calibri"/>
                  </a:rPr>
                  <a:t>2</a:t>
                </a:r>
                <a:r>
                  <a:rPr b="1" lang="es-ES" sz="1800" spc="-1" strike="noStrike">
                    <a:solidFill>
                      <a:srgbClr val="c0504d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31"/>
              <p:cNvSpPr/>
              <p:nvPr/>
            </p:nvSpPr>
            <p:spPr>
              <a:xfrm flipV="1">
                <a:off x="2857680" y="3571920"/>
                <a:ext cx="35712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Oval 32"/>
          <p:cNvSpPr/>
          <p:nvPr/>
        </p:nvSpPr>
        <p:spPr>
          <a:xfrm>
            <a:off x="6084720" y="4724280"/>
            <a:ext cx="28908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 Título"/>
          <p:cNvSpPr/>
          <p:nvPr/>
        </p:nvSpPr>
        <p:spPr>
          <a:xfrm>
            <a:off x="0" y="142920"/>
            <a:ext cx="89298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917760" y="5143680"/>
            <a:ext cx="174888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alibri"/>
              </a:rPr>
              <a:t>Enzima regulad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36 Conector angular"/>
          <p:cNvCxnSpPr/>
          <p:nvPr/>
        </p:nvCxnSpPr>
        <p:spPr>
          <a:xfrm flipH="1" rot="16200000">
            <a:off x="7502760" y="4854240"/>
            <a:ext cx="358200" cy="221400"/>
          </a:xfrm>
          <a:prstGeom prst="bentConnector3">
            <a:avLst>
              <a:gd name="adj1" fmla="val -50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51" name="35 Rectángulo redondeado"/>
          <p:cNvSpPr/>
          <p:nvPr/>
        </p:nvSpPr>
        <p:spPr>
          <a:xfrm>
            <a:off x="6643800" y="6215040"/>
            <a:ext cx="242892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37 Rectángulo redondeado"/>
          <p:cNvSpPr/>
          <p:nvPr/>
        </p:nvSpPr>
        <p:spPr>
          <a:xfrm>
            <a:off x="6500880" y="3857760"/>
            <a:ext cx="221436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34 CuadroTexto"/>
          <p:cNvSpPr/>
          <p:nvPr/>
        </p:nvSpPr>
        <p:spPr>
          <a:xfrm>
            <a:off x="1449000" y="6377040"/>
            <a:ext cx="3218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Isopentenil-piroFosfato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41 Conector recto de flecha"/>
          <p:cNvCxnSpPr/>
          <p:nvPr/>
        </p:nvCxnSpPr>
        <p:spPr>
          <a:xfrm flipH="1">
            <a:off x="5142960" y="6571080"/>
            <a:ext cx="1286280" cy="1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5" name="45 Conector recto de flecha"/>
          <p:cNvCxnSpPr/>
          <p:nvPr/>
        </p:nvCxnSpPr>
        <p:spPr>
          <a:xfrm flipH="1" flipV="1">
            <a:off x="5500080" y="6571440"/>
            <a:ext cx="57204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6" name="47 Conector recto de flecha"/>
          <p:cNvCxnSpPr/>
          <p:nvPr/>
        </p:nvCxnSpPr>
        <p:spPr>
          <a:xfrm flipH="1" flipV="1">
            <a:off x="5857200" y="6571440"/>
            <a:ext cx="50076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7" name="49 CuadroTexto"/>
          <p:cNvSpPr/>
          <p:nvPr/>
        </p:nvSpPr>
        <p:spPr>
          <a:xfrm>
            <a:off x="357120" y="857160"/>
            <a:ext cx="5500800" cy="45972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</a:t>
            </a:r>
            <a:r>
              <a:rPr b="1" lang="es-ES_tradnl" sz="2400" spc="-1" strike="noStrike">
                <a:solidFill>
                  <a:srgbClr val="0000cc"/>
                </a:solidFill>
                <a:latin typeface="Calibri"/>
              </a:rPr>
              <a:t>: Acetatos        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                I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50 Conector recto de flecha"/>
          <p:cNvCxnSpPr/>
          <p:nvPr/>
        </p:nvCxnSpPr>
        <p:spPr>
          <a:xfrm>
            <a:off x="3214440" y="1071720"/>
            <a:ext cx="9291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9" name="42 Rectángulo redondeado"/>
          <p:cNvSpPr/>
          <p:nvPr/>
        </p:nvSpPr>
        <p:spPr>
          <a:xfrm>
            <a:off x="1214280" y="6286680"/>
            <a:ext cx="32148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rcRect l="-2631" t="0" r="2699" b="0"/>
          <a:stretch/>
        </p:blipFill>
        <p:spPr>
          <a:xfrm>
            <a:off x="357120" y="189000"/>
            <a:ext cx="5583240" cy="6459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6300720" y="2060640"/>
            <a:ext cx="2590920" cy="2157120"/>
          </a:xfrm>
          <a:prstGeom prst="rect">
            <a:avLst/>
          </a:prstGeom>
          <a:solidFill>
            <a:srgbClr val="f6faa4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Isopentenil-PP (I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mediario de la síntesis de carotenoides, escualeno y de la biosíntesis de esterol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 Rectángulo redondeado"/>
          <p:cNvSpPr/>
          <p:nvPr/>
        </p:nvSpPr>
        <p:spPr>
          <a:xfrm>
            <a:off x="2214720" y="6072120"/>
            <a:ext cx="1714320" cy="5000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1 CuadroTexto"/>
          <p:cNvSpPr/>
          <p:nvPr/>
        </p:nvSpPr>
        <p:spPr>
          <a:xfrm>
            <a:off x="428760" y="0"/>
            <a:ext cx="8429400" cy="60678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Calibri"/>
              </a:rPr>
              <a:t>Estadi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Isomerización del IPP para d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Dimetilalil-pirofosfato (5C)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isom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IPP (5C) y el Dimetilalilpirofosfato (5C) se condensan para formar el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Geran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0C)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e condensa una segunda molécula de IPP con el geranil-pirofosfato para formar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Farnesil-pirofosfato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 (15C)(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talizado por 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transferas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es-AR" sz="2400" spc="-1" strike="noStrike">
                <a:solidFill>
                  <a:srgbClr val="000000"/>
                </a:solidFill>
                <a:latin typeface="Calibri"/>
              </a:rPr>
              <a:t>escualeno sintetasa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ataliza la condensación de dos moléculas de Farnesil-pirofosfato, formando la molécula de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ESCUALENO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 C) </a:t>
            </a: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 Título"/>
          <p:cNvSpPr/>
          <p:nvPr/>
        </p:nvSpPr>
        <p:spPr>
          <a:xfrm>
            <a:off x="2357280" y="-71280"/>
            <a:ext cx="657252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Arial"/>
              </a:rPr>
              <a:t>BIOSÍNTESIS DE COLESTE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2 CuadroTexto"/>
          <p:cNvSpPr/>
          <p:nvPr/>
        </p:nvSpPr>
        <p:spPr>
          <a:xfrm>
            <a:off x="214200" y="1000080"/>
            <a:ext cx="8572680" cy="4483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8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iclación de Escualeno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LANO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30C) mediante la </a:t>
            </a:r>
            <a:r>
              <a:rPr b="1" i="1" lang="es-AR" sz="2400" spc="-1" strike="noStrike">
                <a:solidFill>
                  <a:srgbClr val="000000"/>
                </a:solidFill>
                <a:latin typeface="Calibri"/>
              </a:rPr>
              <a:t>escualeno monooxige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Calibri"/>
              </a:rPr>
              <a:t>9-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Conversión de Lanosterol a </a:t>
            </a:r>
            <a:r>
              <a:rPr b="1" lang="es-AR" sz="2400" spc="-1" strike="noStrike">
                <a:solidFill>
                  <a:srgbClr val="0000cc"/>
                </a:solidFill>
                <a:latin typeface="Calibri"/>
              </a:rPr>
              <a:t>COLESTEROL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(27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alibri"/>
              </a:rPr>
              <a:t>Estadio III: Escualeno</a:t>
            </a:r>
            <a:r>
              <a:rPr b="1" lang="es-AR" sz="2400" spc="-1" strike="noStrike">
                <a:solidFill>
                  <a:srgbClr val="c00000"/>
                </a:solidFill>
                <a:latin typeface="Calibri"/>
              </a:rPr>
              <a:t>               Colest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3 Conector recto de flecha"/>
          <p:cNvCxnSpPr/>
          <p:nvPr/>
        </p:nvCxnSpPr>
        <p:spPr>
          <a:xfrm>
            <a:off x="3000240" y="4572000"/>
            <a:ext cx="9295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4282920" cy="4357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072040" y="0"/>
            <a:ext cx="3784680" cy="6711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1357200" y="5270400"/>
            <a:ext cx="1714680" cy="730440"/>
          </a:xfrm>
          <a:prstGeom prst="rect">
            <a:avLst/>
          </a:prstGeom>
          <a:ln w="0">
            <a:noFill/>
          </a:ln>
        </p:spPr>
      </p:pic>
      <p:sp>
        <p:nvSpPr>
          <p:cNvPr id="370" name="4 Rectángulo redondeado"/>
          <p:cNvSpPr/>
          <p:nvPr/>
        </p:nvSpPr>
        <p:spPr>
          <a:xfrm>
            <a:off x="7215120" y="6429240"/>
            <a:ext cx="185760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5 Rectángulo redondeado"/>
          <p:cNvSpPr/>
          <p:nvPr/>
        </p:nvSpPr>
        <p:spPr>
          <a:xfrm>
            <a:off x="2143080" y="1857240"/>
            <a:ext cx="142884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6 Rectángulo redondeado"/>
          <p:cNvSpPr/>
          <p:nvPr/>
        </p:nvSpPr>
        <p:spPr>
          <a:xfrm>
            <a:off x="7572240" y="4143240"/>
            <a:ext cx="1285920" cy="35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37 CuadroTexto"/>
          <p:cNvSpPr/>
          <p:nvPr/>
        </p:nvSpPr>
        <p:spPr>
          <a:xfrm>
            <a:off x="1488960" y="214200"/>
            <a:ext cx="58284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F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8 Conector recto de flecha"/>
          <p:cNvCxnSpPr/>
          <p:nvPr/>
        </p:nvCxnSpPr>
        <p:spPr>
          <a:xfrm>
            <a:off x="787320" y="428760"/>
            <a:ext cx="71352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5" name="9 Conector recto de flecha"/>
          <p:cNvCxnSpPr/>
          <p:nvPr/>
        </p:nvCxnSpPr>
        <p:spPr>
          <a:xfrm flipH="1">
            <a:off x="1785600" y="571320"/>
            <a:ext cx="2160" cy="500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6" name="13 Conector recto de flecha"/>
          <p:cNvCxnSpPr/>
          <p:nvPr/>
        </p:nvCxnSpPr>
        <p:spPr>
          <a:xfrm>
            <a:off x="713880" y="428760"/>
            <a:ext cx="50076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7" name="34 CuadroTexto"/>
          <p:cNvSpPr/>
          <p:nvPr/>
        </p:nvSpPr>
        <p:spPr>
          <a:xfrm>
            <a:off x="142920" y="263520"/>
            <a:ext cx="571320" cy="3070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Calibri"/>
              </a:rPr>
              <a:t>I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2790720" y="5616720"/>
            <a:ext cx="22809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Ciclación del Escuale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erre de los anillos 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rmar el núc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eroideo condensa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l C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2743200" cy="516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3643200" y="1928880"/>
            <a:ext cx="500076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Triglicéridos - </a:t>
            </a:r>
            <a:r>
              <a:rPr b="1" i="1" lang="es-ES_tradnl" sz="2800" spc="-1" strike="noStrike">
                <a:solidFill>
                  <a:srgbClr val="c000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Rectángulo"/>
          <p:cNvSpPr/>
          <p:nvPr/>
        </p:nvSpPr>
        <p:spPr>
          <a:xfrm>
            <a:off x="2643120" y="278604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030a0"/>
                </a:solidFill>
                <a:latin typeface="Calibri"/>
              </a:rPr>
              <a:t>Reserv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46c0a"/>
                </a:solidFill>
                <a:latin typeface="Calibri"/>
              </a:rPr>
              <a:t>Fuente o depósito de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79280" y="404640"/>
            <a:ext cx="432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iclación del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    escua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8000" y="1852560"/>
            <a:ext cx="37432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1801bf"/>
                </a:solidFill>
                <a:latin typeface="Arial"/>
              </a:rPr>
              <a:t>ESCUALE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e cicla para formar </a:t>
            </a:r>
            <a:r>
              <a:rPr b="1" lang="es-ES" sz="2000" spc="-1" strike="noStrike">
                <a:solidFill>
                  <a:srgbClr val="e46c0a"/>
                </a:solidFill>
                <a:latin typeface="Arial"/>
              </a:rPr>
              <a:t>COLESTERO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a serie de etapas que involucran otros </a:t>
            </a:r>
            <a:r>
              <a:rPr b="1" lang="es-ES" sz="2000" spc="-1" strike="noStrike">
                <a:solidFill>
                  <a:srgbClr val="00ffff"/>
                </a:solidFill>
                <a:latin typeface="Arial"/>
              </a:rPr>
              <a:t>estero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omo intermedi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 Las reacciones se producen en el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 lis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los productos intermediarios permanecen unidos a una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prot. transportadora de estero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4bc30"/>
                </a:solidFill>
                <a:latin typeface="Arial"/>
              </a:rPr>
              <a:t>veget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intetizan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3"/>
          <p:cNvGrpSpPr/>
          <p:nvPr/>
        </p:nvGrpSpPr>
        <p:grpSpPr>
          <a:xfrm>
            <a:off x="3894120" y="428760"/>
            <a:ext cx="5249880" cy="6200640"/>
            <a:chOff x="3894120" y="428760"/>
            <a:chExt cx="5249880" cy="6200640"/>
          </a:xfrm>
        </p:grpSpPr>
        <p:pic>
          <p:nvPicPr>
            <p:cNvPr id="382" name="Picture 7" descr=""/>
            <p:cNvPicPr/>
            <p:nvPr/>
          </p:nvPicPr>
          <p:blipFill>
            <a:blip r:embed="rId1"/>
            <a:stretch/>
          </p:blipFill>
          <p:spPr>
            <a:xfrm>
              <a:off x="3894120" y="428760"/>
              <a:ext cx="5249880" cy="62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5 CuadroTexto"/>
            <p:cNvSpPr/>
            <p:nvPr/>
          </p:nvSpPr>
          <p:spPr>
            <a:xfrm>
              <a:off x="7286040" y="2808360"/>
              <a:ext cx="710280" cy="4287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Hong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6 CuadroTexto"/>
            <p:cNvSpPr/>
            <p:nvPr/>
          </p:nvSpPr>
          <p:spPr>
            <a:xfrm>
              <a:off x="4744800" y="2786040"/>
              <a:ext cx="827280" cy="428760"/>
            </a:xfrm>
            <a:prstGeom prst="rect">
              <a:avLst/>
            </a:prstGeom>
            <a:solidFill>
              <a:srgbClr val="04b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Plant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9"/>
            <p:cNvSpPr/>
            <p:nvPr/>
          </p:nvSpPr>
          <p:spPr>
            <a:xfrm>
              <a:off x="5032080" y="1452600"/>
              <a:ext cx="1418040" cy="4870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Escual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monoxige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"/>
            <p:cNvSpPr/>
            <p:nvPr/>
          </p:nvSpPr>
          <p:spPr>
            <a:xfrm>
              <a:off x="6521400" y="3054600"/>
              <a:ext cx="537120" cy="182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ff"/>
                  </a:solidFill>
                  <a:latin typeface="Arial"/>
                </a:rPr>
                <a:t>Cic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6 CuadroTexto"/>
            <p:cNvSpPr/>
            <p:nvPr/>
          </p:nvSpPr>
          <p:spPr>
            <a:xfrm>
              <a:off x="5679720" y="3021120"/>
              <a:ext cx="755640" cy="26136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Times New Roman"/>
                </a:rPr>
                <a:t>Anim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5927760" y="4173480"/>
              <a:ext cx="537120" cy="1828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ff"/>
                  </a:solidFill>
                  <a:latin typeface="Arial"/>
                </a:rPr>
                <a:t>Cicl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14"/>
          <p:cNvSpPr/>
          <p:nvPr/>
        </p:nvSpPr>
        <p:spPr>
          <a:xfrm>
            <a:off x="5572080" y="2060640"/>
            <a:ext cx="14479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416560" y="5805360"/>
            <a:ext cx="194148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3 CuadroTexto"/>
          <p:cNvSpPr/>
          <p:nvPr/>
        </p:nvSpPr>
        <p:spPr>
          <a:xfrm>
            <a:off x="3935160" y="4143240"/>
            <a:ext cx="1076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stigma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4 CuadroTexto"/>
          <p:cNvSpPr/>
          <p:nvPr/>
        </p:nvSpPr>
        <p:spPr>
          <a:xfrm>
            <a:off x="7844400" y="4071960"/>
            <a:ext cx="86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rgo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5 CuadroTexto"/>
          <p:cNvSpPr/>
          <p:nvPr/>
        </p:nvSpPr>
        <p:spPr>
          <a:xfrm>
            <a:off x="6363720" y="6429240"/>
            <a:ext cx="95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Colesterol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6 CuadroTexto"/>
          <p:cNvSpPr/>
          <p:nvPr/>
        </p:nvSpPr>
        <p:spPr>
          <a:xfrm>
            <a:off x="6541560" y="5000760"/>
            <a:ext cx="883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o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7 CuadroTexto"/>
          <p:cNvSpPr/>
          <p:nvPr/>
        </p:nvSpPr>
        <p:spPr>
          <a:xfrm>
            <a:off x="6719400" y="928800"/>
            <a:ext cx="842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al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949320" y="1571760"/>
            <a:ext cx="5654520" cy="528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</a:rPr>
              <a:t>Regulación de la Biosíntesis de Coleste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CuadroTexto"/>
          <p:cNvSpPr/>
          <p:nvPr/>
        </p:nvSpPr>
        <p:spPr>
          <a:xfrm>
            <a:off x="6429240" y="628668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5 CuadroTexto"/>
          <p:cNvSpPr/>
          <p:nvPr/>
        </p:nvSpPr>
        <p:spPr>
          <a:xfrm>
            <a:off x="5655240" y="5857920"/>
            <a:ext cx="33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X:  metabolitos del Colesterol, sin identif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6384600" cy="6605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0880" y="-360"/>
            <a:ext cx="2643120" cy="178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Regulación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 la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 Biosíntesis </a:t>
            </a:r>
            <a:br>
              <a:rPr sz="2500"/>
            </a:br>
            <a:r>
              <a:rPr b="1" lang="es-ES" sz="2500" spc="-1" strike="noStrike">
                <a:solidFill>
                  <a:srgbClr val="c00000"/>
                </a:solidFill>
                <a:latin typeface="Calibri"/>
              </a:rPr>
              <a:t>de Colestero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c00000"/>
                </a:solidFill>
                <a:latin typeface="Arial"/>
                <a:ea typeface="Arial"/>
              </a:rPr>
              <a:t>Esterificación del colesterol intracelular</a:t>
            </a:r>
            <a:br>
              <a:rPr sz="2900"/>
            </a:br>
            <a:r>
              <a:rPr b="1" lang="es-ES" sz="2900" spc="-1" strike="noStrike">
                <a:solidFill>
                  <a:srgbClr val="200ffd"/>
                </a:solidFill>
                <a:latin typeface="Arial"/>
                <a:ea typeface="Arial"/>
              </a:rPr>
              <a:t>en células y tejid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Imagen 5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148280" cy="5102280"/>
          </a:xfrm>
          <a:prstGeom prst="rect">
            <a:avLst/>
          </a:prstGeom>
          <a:ln w="0">
            <a:noFill/>
          </a:ln>
        </p:spPr>
      </p:pic>
      <p:sp>
        <p:nvSpPr>
          <p:cNvPr id="404" name="Cuadro de texto 7"/>
          <p:cNvSpPr/>
          <p:nvPr/>
        </p:nvSpPr>
        <p:spPr>
          <a:xfrm>
            <a:off x="2787480" y="356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upo 12"/>
          <p:cNvGrpSpPr/>
          <p:nvPr/>
        </p:nvGrpSpPr>
        <p:grpSpPr>
          <a:xfrm>
            <a:off x="1619280" y="3213000"/>
            <a:ext cx="4897440" cy="3321000"/>
            <a:chOff x="1619280" y="3213000"/>
            <a:chExt cx="4897440" cy="3321000"/>
          </a:xfrm>
        </p:grpSpPr>
        <p:sp>
          <p:nvSpPr>
            <p:cNvPr id="406" name="Cuadro de texto 6"/>
            <p:cNvSpPr/>
            <p:nvPr/>
          </p:nvSpPr>
          <p:spPr>
            <a:xfrm>
              <a:off x="3995640" y="321300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Cuadro de texto 8"/>
            <p:cNvSpPr/>
            <p:nvPr/>
          </p:nvSpPr>
          <p:spPr>
            <a:xfrm>
              <a:off x="1619280" y="3645000"/>
              <a:ext cx="28796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acil CoA-Colesterol Transferasa (A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Cuadro de texto 9"/>
            <p:cNvSpPr/>
            <p:nvPr/>
          </p:nvSpPr>
          <p:spPr>
            <a:xfrm>
              <a:off x="4716360" y="3573360"/>
              <a:ext cx="165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il-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Cuadro de texto 10"/>
            <p:cNvSpPr/>
            <p:nvPr/>
          </p:nvSpPr>
          <p:spPr>
            <a:xfrm>
              <a:off x="4788000" y="4005360"/>
              <a:ext cx="1152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A-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Cuadro de texto 11"/>
            <p:cNvSpPr/>
            <p:nvPr/>
          </p:nvSpPr>
          <p:spPr>
            <a:xfrm>
              <a:off x="3780000" y="6165720"/>
              <a:ext cx="2736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10 Elipse"/>
          <p:cNvSpPr/>
          <p:nvPr/>
        </p:nvSpPr>
        <p:spPr>
          <a:xfrm>
            <a:off x="2357280" y="5500800"/>
            <a:ext cx="785880" cy="78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1 Elipse"/>
          <p:cNvSpPr/>
          <p:nvPr/>
        </p:nvSpPr>
        <p:spPr>
          <a:xfrm>
            <a:off x="4500720" y="3571920"/>
            <a:ext cx="78552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Imagen 4" descr="LCAT"/>
          <p:cNvPicPr/>
          <p:nvPr/>
        </p:nvPicPr>
        <p:blipFill>
          <a:blip r:embed="rId1"/>
          <a:stretch/>
        </p:blipFill>
        <p:spPr>
          <a:xfrm>
            <a:off x="1332000" y="2133720"/>
            <a:ext cx="6264360" cy="34970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upo 10"/>
          <p:cNvGrpSpPr/>
          <p:nvPr/>
        </p:nvGrpSpPr>
        <p:grpSpPr>
          <a:xfrm>
            <a:off x="2124000" y="3214800"/>
            <a:ext cx="7020000" cy="2658600"/>
            <a:chOff x="2124000" y="3214800"/>
            <a:chExt cx="7020000" cy="2658600"/>
          </a:xfrm>
        </p:grpSpPr>
        <p:sp>
          <p:nvSpPr>
            <p:cNvPr id="415" name="Cuadro de texto 5"/>
            <p:cNvSpPr/>
            <p:nvPr/>
          </p:nvSpPr>
          <p:spPr>
            <a:xfrm>
              <a:off x="2916360" y="3214800"/>
              <a:ext cx="165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Cuadro de texto 6"/>
            <p:cNvSpPr/>
            <p:nvPr/>
          </p:nvSpPr>
          <p:spPr>
            <a:xfrm>
              <a:off x="2124000" y="5230800"/>
              <a:ext cx="165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er de C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Cuadro de texto 7"/>
            <p:cNvSpPr/>
            <p:nvPr/>
          </p:nvSpPr>
          <p:spPr>
            <a:xfrm>
              <a:off x="4479840" y="3643200"/>
              <a:ext cx="25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c00000"/>
                  </a:solidFill>
                  <a:latin typeface="Calibri"/>
                </a:rPr>
                <a:t>Lecitin colesterol Acil Transferasa (LCA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Cuadro de texto 8"/>
            <p:cNvSpPr/>
            <p:nvPr/>
          </p:nvSpPr>
          <p:spPr>
            <a:xfrm>
              <a:off x="6072120" y="3214800"/>
              <a:ext cx="3071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Fosfatidilcolina (lecitin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Cuadro de texto 9"/>
            <p:cNvSpPr/>
            <p:nvPr/>
          </p:nvSpPr>
          <p:spPr>
            <a:xfrm>
              <a:off x="5072040" y="5287680"/>
              <a:ext cx="249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Lisofosfatidilco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ángulo 4"/>
          <p:cNvSpPr/>
          <p:nvPr/>
        </p:nvSpPr>
        <p:spPr>
          <a:xfrm>
            <a:off x="900000" y="260280"/>
            <a:ext cx="73440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c00000"/>
                </a:solidFill>
                <a:latin typeface="Arial"/>
              </a:rPr>
              <a:t>Esterificación del colesterol </a:t>
            </a:r>
            <a:br>
              <a:rPr sz="3100"/>
            </a:br>
            <a:r>
              <a:rPr b="1" lang="es-ES" sz="2800" spc="-1" strike="noStrike">
                <a:solidFill>
                  <a:srgbClr val="200ffd"/>
                </a:solidFill>
                <a:latin typeface="Arial"/>
              </a:rPr>
              <a:t>en las Lipoproteínas (H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0 Elipse"/>
          <p:cNvSpPr/>
          <p:nvPr/>
        </p:nvSpPr>
        <p:spPr>
          <a:xfrm>
            <a:off x="1357200" y="5000760"/>
            <a:ext cx="7858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11 Elipse"/>
          <p:cNvSpPr/>
          <p:nvPr/>
        </p:nvSpPr>
        <p:spPr>
          <a:xfrm>
            <a:off x="4500720" y="2643120"/>
            <a:ext cx="57132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-103320" y="826920"/>
            <a:ext cx="9176040" cy="5673960"/>
          </a:xfrm>
          <a:prstGeom prst="rect">
            <a:avLst/>
          </a:prstGeom>
          <a:ln w="0">
            <a:noFill/>
          </a:ln>
        </p:spPr>
      </p:pic>
      <p:sp>
        <p:nvSpPr>
          <p:cNvPr id="424" name="2 CuadroTexto"/>
          <p:cNvSpPr/>
          <p:nvPr/>
        </p:nvSpPr>
        <p:spPr>
          <a:xfrm>
            <a:off x="0" y="0"/>
            <a:ext cx="9144000" cy="763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calización subcelular del metabolismo lipí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aración entre las células de animales vertebrados, levaduras y células vege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síntesis de ácidos grasos ocurre en el compartimento donde la relación [NADPH] / [NADP+] es al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3 CuadroTexto"/>
          <p:cNvSpPr/>
          <p:nvPr/>
        </p:nvSpPr>
        <p:spPr>
          <a:xfrm>
            <a:off x="3286080" y="658188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 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611280" y="1341360"/>
            <a:ext cx="7704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Calibri"/>
              </a:rPr>
              <a:t>Bibliograf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3- Docentes de Química Biológica, “</a:t>
            </a:r>
            <a:r>
              <a:rPr b="0" lang="es-AR" sz="1600" spc="-1" strike="noStrike">
                <a:solidFill>
                  <a:srgbClr val="0000cc"/>
                </a:solidFill>
                <a:latin typeface="Calibri"/>
              </a:rPr>
              <a:t>QUIMICA BIOLOGICA Orientada a Ciencias de los Alimentos”, Nueva Editorial Universitaria de la Universidad Nacional de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Calibri"/>
              </a:rPr>
              <a:t>4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hosphatidicacidsynthesis-sp"/>
          <p:cNvPicPr/>
          <p:nvPr/>
        </p:nvPicPr>
        <p:blipFill>
          <a:blip r:embed="rId1"/>
          <a:stretch/>
        </p:blipFill>
        <p:spPr>
          <a:xfrm>
            <a:off x="2376360" y="620640"/>
            <a:ext cx="4300560" cy="59770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4"/>
          <p:cNvGrpSpPr/>
          <p:nvPr/>
        </p:nvGrpSpPr>
        <p:grpSpPr>
          <a:xfrm>
            <a:off x="4681440" y="5222880"/>
            <a:ext cx="3117960" cy="944640"/>
            <a:chOff x="4681440" y="5222880"/>
            <a:chExt cx="3117960" cy="944640"/>
          </a:xfrm>
        </p:grpSpPr>
        <p:sp>
          <p:nvSpPr>
            <p:cNvPr id="69" name="Line 5"/>
            <p:cNvSpPr/>
            <p:nvPr/>
          </p:nvSpPr>
          <p:spPr>
            <a:xfrm flipV="1">
              <a:off x="4681440" y="5444640"/>
              <a:ext cx="1224000" cy="289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4753080" y="5878440"/>
              <a:ext cx="1152360" cy="7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5906520" y="5222880"/>
              <a:ext cx="155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Tri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5914800" y="5799240"/>
              <a:ext cx="18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cc33"/>
                  </a:solidFill>
                  <a:latin typeface="Arial"/>
                </a:rPr>
                <a:t>Fosfoglicér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0"/>
          <p:cNvSpPr/>
          <p:nvPr/>
        </p:nvSpPr>
        <p:spPr>
          <a:xfrm>
            <a:off x="4291920" y="0"/>
            <a:ext cx="482580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Biosíntesis de triglicér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racción microsomal del 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221040" y="571680"/>
            <a:ext cx="3198600" cy="684360"/>
            <a:chOff x="221040" y="571680"/>
            <a:chExt cx="3198600" cy="684360"/>
          </a:xfrm>
        </p:grpSpPr>
        <p:sp>
          <p:nvSpPr>
            <p:cNvPr id="75" name="Text Box 11"/>
            <p:cNvSpPr/>
            <p:nvPr/>
          </p:nvSpPr>
          <p:spPr>
            <a:xfrm>
              <a:off x="221040" y="85716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1762200" y="1052640"/>
              <a:ext cx="1657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1933920" y="571680"/>
              <a:ext cx="11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cc3300"/>
                  </a:solidFill>
                  <a:latin typeface="Arial"/>
                </a:rPr>
                <a:t>Vía Gli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1"/>
          <p:cNvGrpSpPr/>
          <p:nvPr/>
        </p:nvGrpSpPr>
        <p:grpSpPr>
          <a:xfrm>
            <a:off x="611640" y="2357280"/>
            <a:ext cx="3078720" cy="761400"/>
            <a:chOff x="611640" y="2357280"/>
            <a:chExt cx="3078720" cy="761400"/>
          </a:xfrm>
        </p:grpSpPr>
        <p:sp>
          <p:nvSpPr>
            <p:cNvPr id="79" name="Text Box 14"/>
            <p:cNvSpPr/>
            <p:nvPr/>
          </p:nvSpPr>
          <p:spPr>
            <a:xfrm>
              <a:off x="611640" y="2514600"/>
              <a:ext cx="14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0504d"/>
                  </a:solidFill>
                  <a:latin typeface="Arial"/>
                </a:rPr>
                <a:t>GLICE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>
              <a:off x="2124000" y="2708280"/>
              <a:ext cx="1511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6"/>
            <p:cNvSpPr/>
            <p:nvPr/>
          </p:nvSpPr>
          <p:spPr>
            <a:xfrm>
              <a:off x="2013120" y="2357280"/>
              <a:ext cx="16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cc3300"/>
                  </a:solidFill>
                  <a:latin typeface="Arial"/>
                </a:rPr>
                <a:t>Glicer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2125440" y="27813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2844360" y="27813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3300"/>
                  </a:solidFill>
                  <a:latin typeface="Arial"/>
                </a:rPr>
                <a:t>A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19"/>
            <p:cNvSpPr/>
            <p:nvPr/>
          </p:nvSpPr>
          <p:spPr>
            <a:xfrm>
              <a:off x="2333520" y="2709720"/>
              <a:ext cx="870120" cy="247680"/>
            </a:xfrm>
            <a:prstGeom prst="pie">
              <a:avLst/>
            </a:prstGeom>
            <a:noFill/>
            <a:ln w="255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2"/>
          <p:cNvSpPr/>
          <p:nvPr/>
        </p:nvSpPr>
        <p:spPr>
          <a:xfrm>
            <a:off x="354240" y="12142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ej. adipos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úscu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672480" y="285264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híga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ñ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sti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. mama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5"/>
          <p:cNvSpPr/>
          <p:nvPr/>
        </p:nvSpPr>
        <p:spPr>
          <a:xfrm>
            <a:off x="2843280" y="5373720"/>
            <a:ext cx="194472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2 Elipse"/>
          <p:cNvSpPr/>
          <p:nvPr/>
        </p:nvSpPr>
        <p:spPr>
          <a:xfrm>
            <a:off x="3071880" y="2071800"/>
            <a:ext cx="1500120" cy="13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3 Rectángulo"/>
          <p:cNvSpPr/>
          <p:nvPr/>
        </p:nvSpPr>
        <p:spPr>
          <a:xfrm>
            <a:off x="4786200" y="857160"/>
            <a:ext cx="22147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5 CuadroTexto"/>
          <p:cNvSpPr/>
          <p:nvPr/>
        </p:nvSpPr>
        <p:spPr>
          <a:xfrm>
            <a:off x="4765680" y="1857240"/>
            <a:ext cx="43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Activación de Glicerol a Glicerol-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Activación de AG a Acil-CoA  (</a:t>
            </a: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tioquinas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3638520" y="401760"/>
            <a:ext cx="4790880" cy="6128640"/>
            <a:chOff x="3638520" y="401760"/>
            <a:chExt cx="4790880" cy="6128640"/>
          </a:xfrm>
        </p:grpSpPr>
        <p:pic>
          <p:nvPicPr>
            <p:cNvPr id="92" name="Picture 4" descr=""/>
            <p:cNvPicPr/>
            <p:nvPr/>
          </p:nvPicPr>
          <p:blipFill>
            <a:blip r:embed="rId1"/>
            <a:stretch/>
          </p:blipFill>
          <p:spPr>
            <a:xfrm>
              <a:off x="4143240" y="401760"/>
              <a:ext cx="4173480" cy="60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5"/>
            <p:cNvSpPr/>
            <p:nvPr/>
          </p:nvSpPr>
          <p:spPr>
            <a:xfrm>
              <a:off x="4381560" y="2066760"/>
              <a:ext cx="127800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Ac. Fosfatid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fosfa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3638520" y="4365720"/>
              <a:ext cx="1330200" cy="6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66ff"/>
                  </a:solidFill>
                  <a:latin typeface="Arial"/>
                </a:rPr>
                <a:t>Acil transfer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6429240" y="2214720"/>
              <a:ext cx="172728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Unión del grupo de cabeza pola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(serina, colina, etanolamina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4213080" y="6286680"/>
              <a:ext cx="21448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TRIACILGLICÉR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6302160" y="4714920"/>
              <a:ext cx="21272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FOSFOLÍP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1"/>
          <p:cNvSpPr/>
          <p:nvPr/>
        </p:nvSpPr>
        <p:spPr>
          <a:xfrm>
            <a:off x="370800" y="3571920"/>
            <a:ext cx="3047400" cy="2226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Biosínte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0000"/>
                </a:solidFill>
                <a:latin typeface="Arial"/>
              </a:rPr>
              <a:t>Triglicé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(RE l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5"/>
          <p:cNvSpPr/>
          <p:nvPr/>
        </p:nvSpPr>
        <p:spPr>
          <a:xfrm>
            <a:off x="4929120" y="500040"/>
            <a:ext cx="2714760" cy="1643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1 Rectángulo redondeado"/>
          <p:cNvSpPr/>
          <p:nvPr/>
        </p:nvSpPr>
        <p:spPr>
          <a:xfrm>
            <a:off x="3929040" y="6286680"/>
            <a:ext cx="2571840" cy="35712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94640" y="5143680"/>
            <a:ext cx="1976040" cy="1526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Biosíntesi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Glic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Fosfolíp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00000"/>
                </a:solidFill>
                <a:latin typeface="Arial"/>
              </a:rPr>
              <a:t>(verteb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(RE li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3 Rectángulo redondeado"/>
          <p:cNvSpPr/>
          <p:nvPr/>
        </p:nvSpPr>
        <p:spPr>
          <a:xfrm>
            <a:off x="6500880" y="4714920"/>
            <a:ext cx="178596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5414760" cy="47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445000" y="1143000"/>
            <a:ext cx="338112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Regulación horm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de la sínte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Arial"/>
              </a:rPr>
              <a:t>Triglicé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5500800" y="5786280"/>
            <a:ext cx="25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ehninger A. L., 4ª Edic. 2007– Cap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cachalote%252B%5B1%5D"/>
          <p:cNvPicPr/>
          <p:nvPr/>
        </p:nvPicPr>
        <p:blipFill>
          <a:blip r:embed="rId1"/>
          <a:stretch/>
        </p:blipFill>
        <p:spPr>
          <a:xfrm>
            <a:off x="419040" y="500040"/>
            <a:ext cx="4795920" cy="2292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5ubicacionespermaceti"/>
          <p:cNvPicPr/>
          <p:nvPr/>
        </p:nvPicPr>
        <p:blipFill>
          <a:blip r:embed="rId2"/>
          <a:stretch/>
        </p:blipFill>
        <p:spPr>
          <a:xfrm>
            <a:off x="1143000" y="3571920"/>
            <a:ext cx="489600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5 CuadroTexto"/>
          <p:cNvSpPr/>
          <p:nvPr/>
        </p:nvSpPr>
        <p:spPr>
          <a:xfrm>
            <a:off x="4517640" y="2071800"/>
            <a:ext cx="4536360" cy="1221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Órgano espermaceti en el cacha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íntesis y reserva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acilglicér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ventaja adaptativa  (flotabil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6 CuadroTexto"/>
          <p:cNvSpPr/>
          <p:nvPr/>
        </p:nvSpPr>
        <p:spPr>
          <a:xfrm>
            <a:off x="3676680" y="1429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1801bf"/>
                </a:solidFill>
                <a:latin typeface="Comic Sans MS"/>
              </a:rPr>
              <a:t>Otras funciones de las reservas grasas (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6760" y="461520"/>
            <a:ext cx="8458200" cy="1538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animales que hiberna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iacilglicér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única fuente de energía durante la hibern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box 17-04 figure 1"/>
          <p:cNvPicPr/>
          <p:nvPr/>
        </p:nvPicPr>
        <p:blipFill>
          <a:blip r:embed="rId1"/>
          <a:stretch/>
        </p:blipFill>
        <p:spPr>
          <a:xfrm>
            <a:off x="5929200" y="4430880"/>
            <a:ext cx="2421000" cy="221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t1.gstatic.com/images?q=tbn:ANd9GcT-g5c5JfEAYx2dtshNfWcmYgfelzlSD1her2ycwmHfBUltceYjHA"/>
          <p:cNvPicPr/>
          <p:nvPr/>
        </p:nvPicPr>
        <p:blipFill>
          <a:blip r:embed="rId2"/>
          <a:stretch/>
        </p:blipFill>
        <p:spPr>
          <a:xfrm>
            <a:off x="857160" y="4714920"/>
            <a:ext cx="245772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36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www.elporquedelascosas.com/wp-content/uploads/2008/07/oso.jpg"/>
          <p:cNvPicPr/>
          <p:nvPr/>
        </p:nvPicPr>
        <p:blipFill>
          <a:blip r:embed="rId3"/>
          <a:stretch/>
        </p:blipFill>
        <p:spPr>
          <a:xfrm>
            <a:off x="785880" y="2133720"/>
            <a:ext cx="371484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http://t0.gstatic.com/images?q=tbn:ANd9GcTWmzJY436iiE84paV2mQsXtkxIsGD8poKqIIfks8bmjqpuxphP"/>
          <p:cNvPicPr/>
          <p:nvPr/>
        </p:nvPicPr>
        <p:blipFill>
          <a:blip r:embed="rId4"/>
          <a:stretch/>
        </p:blipFill>
        <p:spPr>
          <a:xfrm>
            <a:off x="6143760" y="208116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8 CuadroTexto"/>
          <p:cNvSpPr/>
          <p:nvPr/>
        </p:nvSpPr>
        <p:spPr>
          <a:xfrm>
            <a:off x="1890720" y="1429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1801bf"/>
                </a:solidFill>
                <a:latin typeface="Comic Sans MS"/>
              </a:rPr>
              <a:t>Otras funciones de las reservas grasas (T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0" name="42 Conector recto de flecha"/>
          <p:cNvCxnSpPr/>
          <p:nvPr/>
        </p:nvCxnSpPr>
        <p:spPr>
          <a:xfrm flipH="1">
            <a:off x="5785920" y="5571000"/>
            <a:ext cx="929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 Box 5"/>
          <p:cNvSpPr/>
          <p:nvPr/>
        </p:nvSpPr>
        <p:spPr>
          <a:xfrm>
            <a:off x="3000240" y="1785960"/>
            <a:ext cx="5112000" cy="1818000"/>
          </a:xfrm>
          <a:prstGeom prst="rect">
            <a:avLst/>
          </a:prstGeom>
          <a:solidFill>
            <a:srgbClr val="ecf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RIACILGLIC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LICEROL  +   AC. GR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11640" y="2276640"/>
            <a:ext cx="360360" cy="936360"/>
          </a:xfrm>
          <a:prstGeom prst="downArrow">
            <a:avLst>
              <a:gd name="adj1" fmla="val 50000"/>
              <a:gd name="adj2" fmla="val 649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4859280" y="2349360"/>
            <a:ext cx="1441440" cy="57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Lip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692360" y="3716280"/>
            <a:ext cx="136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TO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500880" y="3716280"/>
            <a:ext cx="23209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GLIOXIS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214280" y="5286240"/>
            <a:ext cx="2484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uconeogé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14200" y="4714920"/>
            <a:ext cx="1368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Glicó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732720" y="522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etil- 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929720" y="5786280"/>
            <a:ext cx="1015920" cy="614160"/>
          </a:xfrm>
          <a:prstGeom prst="rect">
            <a:avLst/>
          </a:prstGeom>
          <a:solidFill>
            <a:srgbClr val="cf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NADH FADH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918560" y="6357960"/>
            <a:ext cx="1011240" cy="398880"/>
          </a:xfrm>
          <a:prstGeom prst="rect">
            <a:avLst/>
          </a:prstGeom>
          <a:solidFill>
            <a:srgbClr val="ffbe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6715080" y="5786280"/>
            <a:ext cx="1079640" cy="719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.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7524720" y="4221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 flipH="1">
            <a:off x="1357200" y="4214880"/>
            <a:ext cx="433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2214720" y="4214880"/>
            <a:ext cx="285480" cy="9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Esquema General de la movilización de </a:t>
            </a:r>
            <a:r>
              <a:rPr b="1" lang="es-ES_tradnl" sz="3200" spc="-1" strike="noStrike">
                <a:solidFill>
                  <a:srgbClr val="04bc30"/>
                </a:solidFill>
                <a:latin typeface="Calibri"/>
              </a:rPr>
              <a:t>Triglicéridos en Vege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3"/>
          <p:cNvSpPr/>
          <p:nvPr/>
        </p:nvSpPr>
        <p:spPr>
          <a:xfrm>
            <a:off x="2987640" y="3500280"/>
            <a:ext cx="588960" cy="50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5857920" y="3571920"/>
            <a:ext cx="503280" cy="504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7596360" y="4508640"/>
            <a:ext cx="1476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0000ff"/>
                </a:solidFill>
                <a:latin typeface="Calibri"/>
              </a:rPr>
              <a:t>-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7 CuadroTexto"/>
          <p:cNvSpPr/>
          <p:nvPr/>
        </p:nvSpPr>
        <p:spPr>
          <a:xfrm>
            <a:off x="857160" y="207180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Calibri"/>
              </a:rPr>
              <a:t>OLEO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714680" y="6286680"/>
            <a:ext cx="1785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SACA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29 Conector recto de flecha"/>
          <p:cNvCxnSpPr/>
          <p:nvPr/>
        </p:nvCxnSpPr>
        <p:spPr>
          <a:xfrm flipH="1" flipV="1">
            <a:off x="5785920" y="5357160"/>
            <a:ext cx="8755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32 Flecha abajo"/>
          <p:cNvSpPr/>
          <p:nvPr/>
        </p:nvSpPr>
        <p:spPr>
          <a:xfrm>
            <a:off x="6143760" y="4857840"/>
            <a:ext cx="285480" cy="5713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4 Cinta perforada"/>
          <p:cNvSpPr/>
          <p:nvPr/>
        </p:nvSpPr>
        <p:spPr>
          <a:xfrm>
            <a:off x="5643720" y="4572000"/>
            <a:ext cx="1357200" cy="428760"/>
          </a:xfrm>
          <a:prstGeom prst="flowChartPunchedTap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Calibri"/>
              </a:rPr>
              <a:t>C.GLI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5 Flecha abajo"/>
          <p:cNvSpPr/>
          <p:nvPr/>
        </p:nvSpPr>
        <p:spPr>
          <a:xfrm>
            <a:off x="2571840" y="5715000"/>
            <a:ext cx="214200" cy="5000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7 CuadroTexto"/>
          <p:cNvSpPr/>
          <p:nvPr/>
        </p:nvSpPr>
        <p:spPr>
          <a:xfrm>
            <a:off x="4714920" y="521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MA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39 Conector recto de flecha"/>
          <p:cNvCxnSpPr/>
          <p:nvPr/>
        </p:nvCxnSpPr>
        <p:spPr>
          <a:xfrm flipH="1" flipV="1">
            <a:off x="3857400" y="5428440"/>
            <a:ext cx="7862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47" name="43 CuadroTexto"/>
          <p:cNvSpPr/>
          <p:nvPr/>
        </p:nvSpPr>
        <p:spPr>
          <a:xfrm>
            <a:off x="4429080" y="6072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Calibri"/>
              </a:rPr>
              <a:t>SUCCI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45 Conector recto de flecha"/>
          <p:cNvCxnSpPr/>
          <p:nvPr/>
        </p:nvCxnSpPr>
        <p:spPr>
          <a:xfrm>
            <a:off x="6143760" y="6286680"/>
            <a:ext cx="42912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49" name="30 Rectángulo redondeado"/>
          <p:cNvSpPr/>
          <p:nvPr/>
        </p:nvSpPr>
        <p:spPr>
          <a:xfrm>
            <a:off x="6143760" y="5643720"/>
            <a:ext cx="285732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MITOCOND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21:56:58Z</dcterms:created>
  <dc:creator>ali y facu</dc:creator>
  <dc:description/>
  <dc:language>en-US</dc:language>
  <cp:lastModifiedBy>ali y facu</cp:lastModifiedBy>
  <dcterms:modified xsi:type="dcterms:W3CDTF">2018-05-24T20:30:11Z</dcterms:modified>
  <cp:revision>95</cp:revision>
  <dc:subject/>
  <dc:title>Diapositiva 1</dc:title>
</cp:coreProperties>
</file>